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24269-395C-4695-B22A-0AE7CE11388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611F4-C28E-490A-9059-B568A20D17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597" name="PlaceHolder 1"/>
          <p:cNvSpPr>
            <a:spLocks noGrp="1"/>
          </p:cNvSpPr>
          <p:nvPr>
            <p:ph type="sldImg"/>
          </p:nvPr>
        </p:nvSpPr>
        <p:spPr>
          <a:xfrm>
            <a:off x="985680" y="733320"/>
            <a:ext cx="4886640" cy="3665520"/>
          </a:xfrm>
          <a:prstGeom prst="rect">
            <a:avLst/>
          </a:prstGeom>
          <a:ln w="0">
            <a:noFill/>
          </a:ln>
        </p:spPr>
      </p:sp>
      <p:sp>
        <p:nvSpPr>
          <p:cNvPr id="65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71AF4-C7F5-47E0-8182-19A3863A89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6A15F-4881-463F-9099-FAA9B9421F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3" name="PlaceHolder 1"/>
          <p:cNvSpPr>
            <a:spLocks noGrp="1"/>
          </p:cNvSpPr>
          <p:nvPr>
            <p:ph type="sldImg"/>
          </p:nvPr>
        </p:nvSpPr>
        <p:spPr>
          <a:xfrm>
            <a:off x="985680" y="741240"/>
            <a:ext cx="4886640" cy="3665520"/>
          </a:xfrm>
          <a:prstGeom prst="rect">
            <a:avLst/>
          </a:prstGeom>
          <a:ln w="0">
            <a:noFill/>
          </a:ln>
        </p:spPr>
      </p:sp>
      <p:sp>
        <p:nvSpPr>
          <p:cNvPr id="6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53B02-1F42-4D57-B650-A84938A1D9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D10D4-EEE9-4055-90B5-EE38026FFD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7" name="PlaceHolder 1"/>
          <p:cNvSpPr>
            <a:spLocks noGrp="1"/>
          </p:cNvSpPr>
          <p:nvPr>
            <p:ph type="sldImg"/>
          </p:nvPr>
        </p:nvSpPr>
        <p:spPr>
          <a:xfrm>
            <a:off x="985680" y="741240"/>
            <a:ext cx="4886640" cy="3665520"/>
          </a:xfrm>
          <a:prstGeom prst="rect">
            <a:avLst/>
          </a:prstGeom>
          <a:ln w="0">
            <a:noFill/>
          </a:ln>
        </p:spPr>
      </p:sp>
      <p:sp>
        <p:nvSpPr>
          <p:cNvPr id="6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2545C-43E8-4722-8EDF-34ECF27127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57EF0-2C23-433D-AABC-1609EF3F73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1" name="PlaceHolder 1"/>
          <p:cNvSpPr>
            <a:spLocks noGrp="1"/>
          </p:cNvSpPr>
          <p:nvPr>
            <p:ph type="sldImg"/>
          </p:nvPr>
        </p:nvSpPr>
        <p:spPr>
          <a:xfrm>
            <a:off x="985680" y="741240"/>
            <a:ext cx="4886640" cy="3665520"/>
          </a:xfrm>
          <a:prstGeom prst="rect">
            <a:avLst/>
          </a:prstGeom>
          <a:ln w="0">
            <a:noFill/>
          </a:ln>
        </p:spPr>
      </p:sp>
      <p:sp>
        <p:nvSpPr>
          <p:cNvPr id="6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75B12-C8C8-4944-BFF7-7ADDB1BAE4C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6B6FD-B2E4-47D9-A3A9-09E342F3BE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5" name="PlaceHolder 1"/>
          <p:cNvSpPr>
            <a:spLocks noGrp="1"/>
          </p:cNvSpPr>
          <p:nvPr>
            <p:ph type="sldImg"/>
          </p:nvPr>
        </p:nvSpPr>
        <p:spPr>
          <a:xfrm>
            <a:off x="985680" y="741240"/>
            <a:ext cx="4886640" cy="3665520"/>
          </a:xfrm>
          <a:prstGeom prst="rect">
            <a:avLst/>
          </a:prstGeom>
          <a:ln w="0">
            <a:noFill/>
          </a:ln>
        </p:spPr>
      </p:sp>
      <p:sp>
        <p:nvSpPr>
          <p:cNvPr id="6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DDDDF-C65D-4BD5-8994-AC967B5FEA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A7EB4-2DC6-4305-9F9F-EF1CFFFD7B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9" name="PlaceHolder 1"/>
          <p:cNvSpPr>
            <a:spLocks noGrp="1"/>
          </p:cNvSpPr>
          <p:nvPr>
            <p:ph type="sldImg"/>
          </p:nvPr>
        </p:nvSpPr>
        <p:spPr>
          <a:xfrm>
            <a:off x="985680" y="741240"/>
            <a:ext cx="4886640" cy="3665520"/>
          </a:xfrm>
          <a:prstGeom prst="rect">
            <a:avLst/>
          </a:prstGeom>
          <a:ln w="0">
            <a:noFill/>
          </a:ln>
        </p:spPr>
      </p:sp>
      <p:sp>
        <p:nvSpPr>
          <p:cNvPr id="6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074CD-3566-471B-9B07-BC2987FB41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B55F6-FB80-4AEC-8726-4F3C85D99F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3" name="PlaceHolder 1"/>
          <p:cNvSpPr>
            <a:spLocks noGrp="1"/>
          </p:cNvSpPr>
          <p:nvPr>
            <p:ph type="sldImg"/>
          </p:nvPr>
        </p:nvSpPr>
        <p:spPr>
          <a:xfrm>
            <a:off x="985680" y="741240"/>
            <a:ext cx="4886640" cy="3665520"/>
          </a:xfrm>
          <a:prstGeom prst="rect">
            <a:avLst/>
          </a:prstGeom>
          <a:ln w="0">
            <a:noFill/>
          </a:ln>
        </p:spPr>
      </p:sp>
      <p:sp>
        <p:nvSpPr>
          <p:cNvPr id="6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F2840-0598-4FF2-AAD2-1295315D76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48103-EBEC-48CB-901E-81D278B7464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7" name="PlaceHolder 1"/>
          <p:cNvSpPr>
            <a:spLocks noGrp="1"/>
          </p:cNvSpPr>
          <p:nvPr>
            <p:ph type="sldImg"/>
          </p:nvPr>
        </p:nvSpPr>
        <p:spPr>
          <a:xfrm>
            <a:off x="985680" y="741240"/>
            <a:ext cx="4886640" cy="3665520"/>
          </a:xfrm>
          <a:prstGeom prst="rect">
            <a:avLst/>
          </a:prstGeom>
          <a:ln w="0">
            <a:noFill/>
          </a:ln>
        </p:spPr>
      </p:sp>
      <p:sp>
        <p:nvSpPr>
          <p:cNvPr id="6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6C8E3-7E41-4DA7-BCC1-0DFA1A2C1B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BA89E-B99B-41A8-99C3-7F04A5F9AA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1" name="PlaceHolder 1"/>
          <p:cNvSpPr>
            <a:spLocks noGrp="1"/>
          </p:cNvSpPr>
          <p:nvPr>
            <p:ph type="sldImg"/>
          </p:nvPr>
        </p:nvSpPr>
        <p:spPr>
          <a:xfrm>
            <a:off x="985680" y="741240"/>
            <a:ext cx="4886640" cy="3665520"/>
          </a:xfrm>
          <a:prstGeom prst="rect">
            <a:avLst/>
          </a:prstGeom>
          <a:ln w="0">
            <a:noFill/>
          </a:ln>
        </p:spPr>
      </p:sp>
      <p:sp>
        <p:nvSpPr>
          <p:cNvPr id="6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093FE-1BFD-4DC8-8456-E40371974E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6924A-C3B4-4FA5-B943-F3B4F63FF1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5" name="PlaceHolder 1"/>
          <p:cNvSpPr>
            <a:spLocks noGrp="1"/>
          </p:cNvSpPr>
          <p:nvPr>
            <p:ph type="sldImg"/>
          </p:nvPr>
        </p:nvSpPr>
        <p:spPr>
          <a:xfrm>
            <a:off x="985680" y="741240"/>
            <a:ext cx="4886640" cy="3665520"/>
          </a:xfrm>
          <a:prstGeom prst="rect">
            <a:avLst/>
          </a:prstGeom>
          <a:ln w="0">
            <a:noFill/>
          </a:ln>
        </p:spPr>
      </p:sp>
      <p:sp>
        <p:nvSpPr>
          <p:cNvPr id="6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AD5E9-BE26-4989-8BED-6E7D735914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E448E-C38A-439E-9E06-4826431991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9" name="PlaceHolder 1"/>
          <p:cNvSpPr>
            <a:spLocks noGrp="1"/>
          </p:cNvSpPr>
          <p:nvPr>
            <p:ph type="sldImg"/>
          </p:nvPr>
        </p:nvSpPr>
        <p:spPr>
          <a:xfrm>
            <a:off x="985680" y="741240"/>
            <a:ext cx="4886640" cy="3665520"/>
          </a:xfrm>
          <a:prstGeom prst="rect">
            <a:avLst/>
          </a:prstGeom>
          <a:ln w="0">
            <a:noFill/>
          </a:ln>
        </p:spPr>
      </p:sp>
      <p:sp>
        <p:nvSpPr>
          <p:cNvPr id="6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C9ACC-2DA8-431B-8760-BD0D6E6E15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4C607-3A15-4C07-A995-35E2D43AF7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1" name="PlaceHolder 1"/>
          <p:cNvSpPr>
            <a:spLocks noGrp="1"/>
          </p:cNvSpPr>
          <p:nvPr>
            <p:ph type="sldImg"/>
          </p:nvPr>
        </p:nvSpPr>
        <p:spPr>
          <a:xfrm>
            <a:off x="985680" y="741240"/>
            <a:ext cx="4886640" cy="3665520"/>
          </a:xfrm>
          <a:prstGeom prst="rect">
            <a:avLst/>
          </a:prstGeom>
          <a:ln w="0">
            <a:noFill/>
          </a:ln>
        </p:spPr>
      </p:sp>
      <p:sp>
        <p:nvSpPr>
          <p:cNvPr id="6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406C5-A9F8-440C-AFFA-B1AB4D9F40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CADE2-13A9-4DED-B7AB-DD8FCC2EB7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3" name="PlaceHolder 1"/>
          <p:cNvSpPr>
            <a:spLocks noGrp="1"/>
          </p:cNvSpPr>
          <p:nvPr>
            <p:ph type="sldImg"/>
          </p:nvPr>
        </p:nvSpPr>
        <p:spPr>
          <a:xfrm>
            <a:off x="985680" y="741240"/>
            <a:ext cx="4886640" cy="3665520"/>
          </a:xfrm>
          <a:prstGeom prst="rect">
            <a:avLst/>
          </a:prstGeom>
          <a:ln w="0">
            <a:noFill/>
          </a:ln>
        </p:spPr>
      </p:sp>
      <p:sp>
        <p:nvSpPr>
          <p:cNvPr id="6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6DC68-3ACC-4716-91F5-5FD81AFF76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DB30C-EA2D-4913-B017-F625775D54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7" name="PlaceHolder 1"/>
          <p:cNvSpPr>
            <a:spLocks noGrp="1"/>
          </p:cNvSpPr>
          <p:nvPr>
            <p:ph type="sldImg"/>
          </p:nvPr>
        </p:nvSpPr>
        <p:spPr>
          <a:xfrm>
            <a:off x="985680" y="741240"/>
            <a:ext cx="4886640" cy="3665520"/>
          </a:xfrm>
          <a:prstGeom prst="rect">
            <a:avLst/>
          </a:prstGeom>
          <a:ln w="0">
            <a:noFill/>
          </a:ln>
        </p:spPr>
      </p:sp>
      <p:sp>
        <p:nvSpPr>
          <p:cNvPr id="6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016B1-89CD-491E-A380-31939E9D43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5BDE3-1AF4-426D-9F75-F1926EF2C9C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1" name="PlaceHolder 1"/>
          <p:cNvSpPr>
            <a:spLocks noGrp="1"/>
          </p:cNvSpPr>
          <p:nvPr>
            <p:ph type="sldImg"/>
          </p:nvPr>
        </p:nvSpPr>
        <p:spPr>
          <a:xfrm>
            <a:off x="985680" y="741240"/>
            <a:ext cx="4886640" cy="3665520"/>
          </a:xfrm>
          <a:prstGeom prst="rect">
            <a:avLst/>
          </a:prstGeom>
          <a:ln w="0">
            <a:noFill/>
          </a:ln>
        </p:spPr>
      </p:sp>
      <p:sp>
        <p:nvSpPr>
          <p:cNvPr id="6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59E7F-CB74-4771-9946-3FDC9B13DCB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33320"/>
            <a:ext cx="4886640" cy="3665520"/>
          </a:xfrm>
          <a:prstGeom prst="rect">
            <a:avLst/>
          </a:prstGeom>
          <a:ln w="0">
            <a:noFill/>
          </a:ln>
        </p:spPr>
      </p:sp>
      <p:sp>
        <p:nvSpPr>
          <p:cNvPr id="66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92D73-8B08-4CB2-BF56-E1837260A7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D9E16-8C4F-4AD7-88DC-D9528C3BD8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5" name="PlaceHolder 1"/>
          <p:cNvSpPr>
            <a:spLocks noGrp="1"/>
          </p:cNvSpPr>
          <p:nvPr>
            <p:ph type="sldImg"/>
          </p:nvPr>
        </p:nvSpPr>
        <p:spPr>
          <a:xfrm>
            <a:off x="985680" y="741240"/>
            <a:ext cx="4886640" cy="3665520"/>
          </a:xfrm>
          <a:prstGeom prst="rect">
            <a:avLst/>
          </a:prstGeom>
          <a:ln w="0">
            <a:noFill/>
          </a:ln>
        </p:spPr>
      </p:sp>
      <p:sp>
        <p:nvSpPr>
          <p:cNvPr id="6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405D7-CF28-4844-AFFE-1165946190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5BDA9-368E-42EF-A3BB-8CCEDFA7F6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9" name="PlaceHolder 1"/>
          <p:cNvSpPr>
            <a:spLocks noGrp="1"/>
          </p:cNvSpPr>
          <p:nvPr>
            <p:ph type="sldImg"/>
          </p:nvPr>
        </p:nvSpPr>
        <p:spPr>
          <a:xfrm>
            <a:off x="985680" y="741240"/>
            <a:ext cx="4886640" cy="3665520"/>
          </a:xfrm>
          <a:prstGeom prst="rect">
            <a:avLst/>
          </a:prstGeom>
          <a:ln w="0">
            <a:noFill/>
          </a:ln>
        </p:spPr>
      </p:sp>
      <p:sp>
        <p:nvSpPr>
          <p:cNvPr id="6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B992D-055F-42A9-B652-FF26666E54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A5289-A10C-4970-B2E9-F45530317FC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3" name="PlaceHolder 1"/>
          <p:cNvSpPr>
            <a:spLocks noGrp="1"/>
          </p:cNvSpPr>
          <p:nvPr>
            <p:ph type="sldImg"/>
          </p:nvPr>
        </p:nvSpPr>
        <p:spPr>
          <a:xfrm>
            <a:off x="985680" y="741240"/>
            <a:ext cx="4886640" cy="3665520"/>
          </a:xfrm>
          <a:prstGeom prst="rect">
            <a:avLst/>
          </a:prstGeom>
          <a:ln w="0">
            <a:noFill/>
          </a:ln>
        </p:spPr>
      </p:sp>
      <p:sp>
        <p:nvSpPr>
          <p:cNvPr id="6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FBD10-5C68-4E2D-BF45-5F6CE16F68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F172F-FFA9-4355-92D6-05A44FB232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7" name="PlaceHolder 1"/>
          <p:cNvSpPr>
            <a:spLocks noGrp="1"/>
          </p:cNvSpPr>
          <p:nvPr>
            <p:ph type="sldImg"/>
          </p:nvPr>
        </p:nvSpPr>
        <p:spPr>
          <a:xfrm>
            <a:off x="985680" y="741240"/>
            <a:ext cx="4886640" cy="3665520"/>
          </a:xfrm>
          <a:prstGeom prst="rect">
            <a:avLst/>
          </a:prstGeom>
          <a:ln w="0">
            <a:noFill/>
          </a:ln>
        </p:spPr>
      </p:sp>
      <p:sp>
        <p:nvSpPr>
          <p:cNvPr id="6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28421-615B-4B5C-B84D-CF787E92BF5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9D506-F720-4082-A4E5-353FE63C53F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1" name="PlaceHolder 1"/>
          <p:cNvSpPr>
            <a:spLocks noGrp="1"/>
          </p:cNvSpPr>
          <p:nvPr>
            <p:ph type="sldImg"/>
          </p:nvPr>
        </p:nvSpPr>
        <p:spPr>
          <a:xfrm>
            <a:off x="985680" y="741240"/>
            <a:ext cx="4886640" cy="3665520"/>
          </a:xfrm>
          <a:prstGeom prst="rect">
            <a:avLst/>
          </a:prstGeom>
          <a:ln w="0">
            <a:noFill/>
          </a:ln>
        </p:spPr>
      </p:sp>
      <p:sp>
        <p:nvSpPr>
          <p:cNvPr id="6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E4E0F-29DA-45C9-92C5-25786F579C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2E46B-ED6A-42AC-8AC2-0BCDB86488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5" name="PlaceHolder 1"/>
          <p:cNvSpPr>
            <a:spLocks noGrp="1"/>
          </p:cNvSpPr>
          <p:nvPr>
            <p:ph type="sldImg"/>
          </p:nvPr>
        </p:nvSpPr>
        <p:spPr>
          <a:xfrm>
            <a:off x="985680" y="741240"/>
            <a:ext cx="4886640" cy="3665520"/>
          </a:xfrm>
          <a:prstGeom prst="rect">
            <a:avLst/>
          </a:prstGeom>
          <a:ln w="0">
            <a:noFill/>
          </a:ln>
        </p:spPr>
      </p:sp>
      <p:sp>
        <p:nvSpPr>
          <p:cNvPr id="6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EE2AF-F4B6-4436-BCF0-2A0214EBEE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4F102-AEB6-408A-952C-235C2F5A3E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9" name="PlaceHolder 1"/>
          <p:cNvSpPr>
            <a:spLocks noGrp="1"/>
          </p:cNvSpPr>
          <p:nvPr>
            <p:ph type="sldImg"/>
          </p:nvPr>
        </p:nvSpPr>
        <p:spPr>
          <a:xfrm>
            <a:off x="985680" y="741240"/>
            <a:ext cx="4886640" cy="3665520"/>
          </a:xfrm>
          <a:prstGeom prst="rect">
            <a:avLst/>
          </a:prstGeom>
          <a:ln w="0">
            <a:noFill/>
          </a:ln>
        </p:spPr>
      </p:sp>
      <p:sp>
        <p:nvSpPr>
          <p:cNvPr id="6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EB17E-AC6D-409F-95D0-E610C9A75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15B4836-444E-4950-A46A-428CC4546C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4CCA0B1-01F6-4A72-BFD1-F3D964614C77}"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74F9FFC-09EB-4AAF-B01A-A4AFD2968CC8}"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D1ABD3E2-EF20-4D53-A6BB-FCF8F86C00F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5C51627F-CEB9-45C3-A51F-203A2B1F85E8}"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0E7B74E-2183-4D86-A0FE-C20FE316D855}"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37EB0AE-8B94-4E7E-A9B4-948DDF0D854A}"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14FAB208-5F53-4916-990E-0E05E0F41A1C}"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93EEC3C2-2E0E-492B-8025-34111B0D4F2E}"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D4DD6520-DD4A-4B19-999B-13CEC8391DD2}"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899B98A8-7CE2-4E2D-8181-5B88E6287871}"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4C24A6C4-06E8-4C9A-94F5-BC28F56892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97EA76D-D05A-4E88-A92B-BE4C9784EE37}"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D63616F-E3CF-4CEE-9CFD-4F51BD858723}"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B71B4904-97BD-4181-B1F5-4C4C5DF5A543}"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A7A413B7-3425-4A36-BB64-E7236C11E9E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CA66F5DC-BF00-40E9-9173-93ADF7335A58}"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FA05955D-149C-40F1-A736-D4C14DA2CF4E}"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33DC6A0-EB9B-4F2B-AC5C-4AA286C99CCC}"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9A9C98BE-EC77-4E7D-8F9D-28652D8CFBD2}"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68C5D82-D6CF-4BA4-9661-B4267A14E4B2}"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737257CE-C1E4-4F9A-903D-3B70D15DB216}"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17F1C59D-5F96-4689-8837-E40F664D28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A94DC17-A9B0-4718-9A80-DE0AF863A8C0}"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B9CA7DD5-AD9D-4E0A-8530-2D240ED28E91}"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EC848EBD-8DF2-4728-BDE3-993DBD9E626F}"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7F5D9359-34D2-4EA7-BF79-292F3C34819A}"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134348DE-4B3E-46F4-856D-28A118D0CBB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F01C45C1-D120-407F-81BD-BFFDC29BE10C}"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051F3CD5-31D5-44E3-B32F-1604CB95783F}"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86DCB188-D64D-4563-B9C3-1B5EC677CCA4}"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C38AB0B-191E-4E9A-89B0-799FD47ABF9B}"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95E82E9-A17A-434D-88D4-64D3790E4CFE}"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08FAF4B-DE49-4DF7-830D-93D63D8EE7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817DA40-F094-42B2-9F69-67923B45E5B9}"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7F3C3727-8739-4507-AAA0-ADC8A7C595C8}"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9DB49DDB-E206-4D8F-88FC-9798D3228DCA}"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D9B80DF9-70B8-4E5C-9F8E-8A584D972A4B}"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FBD027ED-9D05-40C6-81D5-7E244875A17E}"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9E2898FF-3A39-414F-9243-C716F20C9C70}"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FD45318C-B905-417B-BAC8-DB6CD2C47132}"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1C8DB801-B534-4975-BE01-8CCC36922F6F}"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DF9745A5-1477-4DB7-90E9-12F3301A54D6}"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0D75DA7E-ED17-4713-B821-8BD21611A8F1}"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49707DD4-3F92-48FC-958F-798CE2A259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C3097A9-FB0B-4F50-AFB8-2D17E7C76265}"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D2D1A335-2150-4534-95BE-71AA9BED7989}"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20EA951-0377-40C5-8A6B-15B63F7DC965}"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A571B474-5C3D-4BAC-B0B0-1F202B4EF52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111BE822-70E4-47A4-A3BF-122E0814699C}"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5D3CAAE4-2B60-48DC-863C-6C839DBCA765}"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E2879E5-D9B6-461E-A5F4-7AB84B534188}"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56B96EFC-CEB8-4EC9-8042-ADD847584F1A}"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DBD5D99-E4B4-4511-BE52-9E6037C4D27C}"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33F3B6BF-B650-4C2E-AD7C-74D55C518CB5}"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21841F8B-130C-4A06-AE85-D80E8B9824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FDEDEAA-A5A9-4407-A3CD-B8D74BBD5565}"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74AE772E-E7C6-4F77-95B0-02688C5AE0FE}"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87DE1DB-C4E0-41C7-ACB4-6BC3398B6599}"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4F8831C-09C8-4A12-A221-2DFCFF706E8D}"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E0052C68-1329-4A29-BAAD-B138E931A13E}"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E9875CB3-8A56-4B83-BF55-57CFB8580584}"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5512CC14-D66C-4B14-AB23-337A61AD23D3}"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BA4927DA-CE5B-4F65-A931-348E0B43AFF5}"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D4792F6E-F195-4E72-91D4-6AFC63BCEE09}"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0587D8E5-9974-4337-9B2C-7CD970C174B2}"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A58ACB88-5ED0-4AD6-B50A-935A30461F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83B4641-DA3E-4E21-BA9D-B651863BACDA}"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696DB9B0-E8F2-41DF-BA0B-DD57746D0811}"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604D3053-C2F3-4412-A13F-BF61502F3F48}"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3DAFD8DE-0BD4-4634-B775-88F174BBD38F}"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96ECCF34-6BA2-4C4F-94A0-26BD2ACE5295}"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910140F8-26BD-4156-A455-58CED23DD80B}"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61958AF-FC1B-4817-9B4A-EFA137FF04D1}"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5E755DCA-7804-4DF6-B298-1E26D6B83BE4}"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1582F990-8B98-464E-B916-A00B81A5DC33}"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B1505187-CE0C-4514-AEF6-3050C6B556DF}"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50C5656A-CDF7-4790-8DDF-9CCFDA97B00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8564238-325D-4200-92CB-666CCF21FF07}"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20C978A9-C606-4F81-9244-3B36A5EB560D}"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DAA8AF6B-2026-412A-BB09-93BC6A9C9E49}"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128D06F-6069-42AD-AA01-56E65F1CE43C}"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C519C5E3-C225-47F5-B20F-E26B2B57CC1A}"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0051A31B-23FA-415F-81FF-48611033A3C3}"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BED889A-4DE7-4B6C-832D-63943C2BE745}"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8215B83-FC32-4F87-83CD-D4887A87FFE7}"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EEF2162-CAD6-46E4-8A30-59544895BA1E}"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54BFB904-98C4-4564-A006-E39042EB6633}"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72C1B392-DB0C-4590-A2E1-C824351DDC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1D9175D-2B22-420D-A833-05511EB0D6A3}"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C5FF8C57-ECA4-48F8-8791-E49DBFBB5C2A}"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4C3CB448-4A53-43E0-BA29-D58230AEA8C2}"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0A48D23-70BA-4EDA-9F51-8DF7DC975796}"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AD37FCC-782C-4ECB-B1BD-779677505BDA}"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73B81D6A-A007-4544-86F6-E8C42986DF89}"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69F46EA5-E623-4B7E-8443-75797D88FC55}"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30467059-14D4-40BC-AF27-1D7DA319BE1B}"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710D353C-D202-4A7D-A3DC-0947D4A4E7AA}"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6075202E-EAF0-4F25-830E-B665270660E4}"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A7CFE30-3ADC-4C05-BE59-9015C29E47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22961FB-9303-44FE-9165-9D7C1A6791F5}"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F5BCE6B3-E271-4444-B209-20CAD4F724AB}"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76267F17-0E03-47B1-9493-81862AB53EE0}"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628B73C3-188F-4BCF-AE72-36C580ECBBDE}"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C39876F8-B027-48AC-9B65-BB7FEAFC60F3}"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B94AE5CB-BF48-4F23-9E48-F8CF13F1E56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105762B1-27FB-4856-B455-B55A29268C35}"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367A0118-A8BB-4469-A6E8-4C9C29600600}"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88D51F5C-7263-49C8-871F-D58C32C271E9}"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59984056-389E-44D4-8D31-EB30384C6D9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9F0DCD0-A4D4-4B72-9D7D-20063C0BA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1EF9C84-0DA8-4C90-8C6C-5DACAE049E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E07AAAC-7C07-47DB-B282-1306D507664B}"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20EBF40D-AF4B-4AE3-B23E-6C148C0A2CE0}"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69FC70C-0057-4B7A-964C-34FD651C9DBF}"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61F5580-C804-4F19-8A56-50E073977F61}"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0271438B-98FA-4AB6-B470-1DC900FAB445}"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DCF8D801-5990-4D73-ACAD-CB41D53A5EEE}"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7F7DD7C7-31E8-4C45-B2C5-3625B8A19CC3}"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48E900CE-003D-48A1-96C1-2A3A7C6B4CDD}"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CAB58E30-5E7D-47F9-B8C0-E587F872C418}"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C835F44C-A973-4C00-AC26-547ADBE03459}"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5B72C736-DFB0-410C-AC3A-EAF4F10C2B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E0429B0-1FE5-42A0-9F75-4CDF5FD1CF86}"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5F9504F5-AD20-4600-87C3-A1397A112AB3}"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E42E018C-40DD-4949-84BE-DF44D4A86DB5}"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168BFF01-0200-4E32-9713-5D6DA6D8EA3B}"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CC84339-B221-4640-81D6-99442123F8F2}"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9977F3F4-368F-43C6-82C9-6768243B6410}"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51B69E2A-86B5-4192-A613-54699155F83C}"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7FAE7151-2177-4EFA-B953-1AC444D818DC}"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66654E08-D4B0-418A-9EB9-C938DE22216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244DC93A-40E9-43E0-82F2-9D28583750D5}"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0D636C79-CB93-47C5-B8E2-BBBA8059D0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398BA7E-B980-4351-BBE5-C1E352EF7C12}"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5D587D2A-924E-4B5F-9814-DA24077C3429}"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F72A8DA7-FAF1-4136-8F46-25B8FF139779}"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8EE000A0-AED5-433A-AB5A-11A7DB9B656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2ED6B477-C5A2-470C-8994-2C5969018D16}"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49FCA885-388D-4857-B374-888F6ED470B2}"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5E0EC70-989C-48B0-AE8E-AFCC7487FEA4}"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C3E915C8-44A9-4709-92A1-9043F30A69FD}"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A6A834A3-12D1-4C0D-A21D-8E7EFC6D68FB}"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2F24794F-54BC-4428-AF37-FC694DA9D1C0}"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74CC00FF-1DBF-47BA-9E56-440E58739E1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038C77A-0C33-4661-A455-0AFD23ABA7B4}"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032E2863-D4B0-44C1-8BF8-17E935DC6A80}"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A58BB903-2B98-4081-B055-950DC39EAB56}"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71B1D5FC-070D-46D4-91D0-C6559DBF351E}"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7DCFE2CD-0A53-46F7-9965-254A2DD69CA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191908BC-2B4E-4D67-BD15-45D3D67C6A3B}"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F0C570B-3312-4A30-817A-C0A16025BEC0}"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4A19E55B-E270-4058-A787-2ED59D4BFFFA}"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A8BAA28-ADD7-48A7-A029-FA8A6C1CAAA7}"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C7AA85D0-CBCD-4535-AF39-FAA076EF3D72}"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C85E819B-B276-46B1-AFC2-09D27F594B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CFC00B8-8E7D-4312-BE75-48061B0D9411}"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6A52D185-23F5-4741-9870-07B34F8FFA2E}"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C895173-5B3D-4C8E-A276-B31E3BE3BF26}"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D8FC617-A6BD-44CD-8BFF-A9C4AFB256CF}"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009F55A9-6B63-4E00-B571-C82667DF2E6A}"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6B01D6E-C7D8-4540-B8B1-A7A917D8A1F1}"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6E355CD8-83DE-4081-A805-9FD8A9A0EE7C}"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E2ECB053-722A-4D1E-9EF0-9DA604C639B5}"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BF77A3BA-0F49-4884-80C6-A3CFC269E85A}"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D16F9E5-215A-445D-845D-4BF9D7029F7D}"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9A1C100-B39E-4A5D-B561-57E59F8781F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EDC6E57-F943-4A42-A31E-D5321D86F1A7}"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6104B4D-DE4B-426A-B790-C6AD73783C9D}"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3ED2933D-1B5C-4736-9B43-1539BA1370D4}"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0B734AB0-E3C0-44E2-B9C1-49D52A64D789}"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3D83BA42-33E4-4C9E-AD33-DA73C46AE8AD}"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29F2FFC-CBB7-4B85-A5C8-2AB1ABB91CEA}"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B42E369-71B6-4CFC-9DA5-F1DC017148D0}"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140DF41B-05D7-437C-A1A2-BFFBBCA61916}"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B3757494-4633-4867-B608-31681405ACC9}"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8F01A083-7A1C-46E0-9F09-BA2184E2A610}"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FB75153-875F-4D6A-8296-5A5F6143F9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6B98301-7202-4AD4-8991-468616C5B586}"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8B9AFD42-29B8-4FAF-9848-F0EED4BC7AFF}"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62594C1-E1E6-47B1-A5E9-D4EF78751719}"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831CE614-1274-4AAF-B39C-1695DE97AE69}"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7D5AAD32-403E-430D-ACF5-51E9E22755C2}"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4705ED92-6BCB-4027-9B21-3645A066F44A}"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BE44C53B-9C56-4015-AF8E-942FBD5DDD4A}"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0D33033B-CFCD-4C2A-9EA7-62F2AC50BB97}"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C17955FC-E1E1-4870-8DD7-B878E886BA53}"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B5A59AED-1802-4A17-89DD-A20DF527C6D0}"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DAA7BF21-5BA3-4752-9C2B-E7F49CBAA2D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566B9B0-CCE6-43C5-921B-32967D3478EC}"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36AFD116-6E2E-496A-B3E1-4059F758EE65}"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7C40097-C7BB-421C-88DF-B157F286BC6F}"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7D805D6A-A15F-4806-B39C-D61E224BEEDA}"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FB66391-3EBB-466A-89B1-772C0A550723}"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7F1B821E-2128-4876-B42F-DDEF151F8EFE}"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A0AC3878-E4F8-47EE-951A-7A036894ED44}"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4542FD3F-04B2-4682-AE41-493CFEFB8441}"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3A8DC2A4-8D3A-4DCA-8AF7-FDBD9208FA38}"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35C8310A-075B-4D98-AFA4-CD4AC4F25D1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5E0E78F3-9E58-46A3-9B8A-5917B9D720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C2BDF87-01FC-4E13-AB26-E3527255B6EE}"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C7EEF0CA-3E88-48B6-B9ED-2E66EE359960}"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CC2FCD5D-39CF-4BCF-9BDD-ACD668DC8F52}"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12929767-C90E-4165-9EC1-C74E22F68F0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1E65020-8C2C-4186-9E16-EA09D39A2216}"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860D3B6-0024-486A-8F30-7B11CA03844A}"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2F5AA08-97E8-4FBF-AD1C-C30FC263FD5E}"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73A82C0F-81F1-40AD-8130-2BF8825DDDC0}"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793E5F72-FBE0-4336-A102-8801FBC62492}"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066C2A23-C26F-4F14-8739-6BB187637009}"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57088DFA-A668-4711-B339-4B711F4964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65E9EA3-2102-4CF0-B3B7-79F29F149059}"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3042E883-146B-47B9-A616-41A71B2F7459}"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ADAE26E1-09F9-4AB4-9887-9CDCBB79FB05}"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BD7505CB-4C08-484A-B46E-840EF4091A35}"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5C64260-8B38-477E-BDC5-3D3F79CA4A8D}"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C6E9BE14-1762-48ED-8007-0CA4C891020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EA9444E1-C85E-444E-B5F5-11B3851335B2}"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7FC2670-0BFA-4EA3-B0C9-9253386A01E1}"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F3C162B-6E74-4469-9687-83D14F41BD99}"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24A3A93-A941-4481-8BBE-6084A9BEC50F}"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98B6D296-D086-4C8D-9BFE-116C50096E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79FA91F-3FCA-4F93-A4E4-3E7E8EEB35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FF49B55-A462-49B8-9DEE-CE2FF2A3FA5A}"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89A90820-9F08-48C3-83E4-01DC94390EFC}"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58526AAD-618E-45D6-BDD2-105DBE4B0075}"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2E1C4D8-8715-45B4-8CA0-94B8B74F98AA}"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B3B40DDB-0502-44A1-9E2E-A970D2C88B93}"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1FE1931F-9DDF-4002-8B25-1A5FCE5AFE04}"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B39F8BD4-46A4-4DCF-87D7-E0930C0B9FC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74381F75-EA05-45FD-BD19-5B61B3A958D1}"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4353092-C34D-4674-9772-17386CBA0A49}"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C2E2C77-856A-4B0C-A588-E0AE1CEB9138}"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A7A949E2-D426-4261-A986-B373C2610F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45FCD29-EF66-44D5-9F17-CD41E0151325}"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E991F641-29E8-4C72-9EA8-AFF8483E7912}"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36DDF501-DCC9-454E-AB16-AAF29190A9E2}"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BFE7FE94-4CC0-4EDE-90BF-7DE86A3292D3}"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E01CDAA0-B833-40D6-91C7-782B2E625F62}"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E266B472-D505-4760-BBFE-2EF4C0E7EBA9}"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CC327AB2-A641-42FF-8399-7A7FB51CEF62}"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B90A17C6-FEAE-402E-BE20-2B602CE80DFB}"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004BA055-F553-44D4-B33D-177104ABFEE5}"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DD7E8E93-654D-4299-8888-E0EFC2DF548A}"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BDB0E74-05BE-44C8-BE4A-09D5465359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8024DDE-8955-4B02-BA00-D32D49BF25F9}"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179E0152-0E3B-4E00-9845-FC1E069FD066}"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3531DB59-6021-4632-9CCE-08E9A852F662}"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E9EC455A-5FA4-4EAB-9D5A-1CA99FA3A104}"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5D4B03FA-9DEE-44D6-A23F-72AFBFAB134F}"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DB514CBE-72ED-4984-AB04-387FBC2CC074}"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7BAE87AB-5A67-4B1C-8AE4-5E43165FA55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383D250B-6CC6-4FB7-913E-68D859E1AB97}"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043318E1-A338-4533-8598-EE1599807AD4}"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46271635-2F11-48C5-8593-A4F783AD83CA}"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6A62EF02-9528-4525-ACF0-CDA68C69B9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8A86634-1386-4361-A2F2-DDCDF671C51A}"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96B3202B-915F-48AD-9EEF-C4156F578A3E}"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D859D13-4E11-4098-B5F6-AF7649E85033}"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62834F2-E305-4DCC-A0BF-FFA1F5B54343}"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3CA9A84-3AA8-4C6B-B99B-BDCD6C070920}"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3389744-6D76-46D9-A364-EA67AF98F46D}"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ECB74AFE-F236-4478-8567-9FCDDCF283E3}"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20C15605-104F-4A3C-AC7F-975F26A21377}"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F3B45A41-910A-4DD9-8222-18A92CAD0878}"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EFEA369-1154-488D-BFEA-D7CEF3BB6D31}"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449AA9D7-6C34-46A3-BD92-34B8DA55918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B4BFC1B-9B91-4C7D-B2CA-98E2D854CC04}"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C113D215-C689-4D2A-9214-51C119170C2B}"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2E6BE270-8132-4DF4-9E2A-F7CEE766BE4E}"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51260DED-7527-427E-8B8F-C2EE1E9A1EFC}"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B02713F4-CDB6-4D74-BA4E-D56A31164015}"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2B2B1B49-37BB-4B4F-BE44-426655F1F389}"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913C18FD-31DA-43AF-971E-3F086D5DFC95}"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FE9A97FD-C4FB-4CEF-8EFB-6D9C0D1BDA96}"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8EC45257-DE8C-468F-8D6F-CEE7E8CC25CC}"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69E19F43-D673-4663-BC2D-EBAC24645FC5}"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65276E8A-AA83-4DF1-A52D-10533CEC99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446E101-103F-4A19-BA35-1887B3B41CCC}"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55983E2-7A5F-4873-BCBE-F1016AF60EB3}"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F67E631-D517-4DB0-A0B6-469253D1978D}"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E33445F0-2228-4EE9-BE96-D63113F40FB0}"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A9459797-792A-4767-82E1-BE4BC63D6816}"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AA524AC3-5703-4933-9685-F9ED5CE19B09}"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E53AF6A-C24F-474B-8C7B-E36635D96FEE}"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B1E33A33-2E82-48FA-9D41-FCF4CEC67743}"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B43319C-502D-44BB-B10C-28DC346B1ADB}"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4AB19DAD-0773-4AE6-9227-CF3754669244}"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A100F86D-5E22-4000-9022-58CFFD1F69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658607E-56B4-4206-A24C-A903A64FC281}"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19E9856F-487E-4A20-90EC-9D74675D1EF9}"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82D101D5-EF38-451D-81DD-600B5E3489A5}"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CDE4D6C5-3CFA-436E-AF8C-4DA74295604A}"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75C08AB-22F2-43A1-ACB9-8E61B9523F75}"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F626CD48-5114-41B6-B850-1E52086B92D3}"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685D2C4B-D34C-442A-88CD-C4BAD92B5C14}"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37E7F5CE-3C91-4B63-8A68-7F189A55F7E6}"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BD2FD820-EF1F-458C-99A8-6AF36F568B56}"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59F16B11-69EC-43CE-A096-E678B4636DCD}"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670FBA2-37F7-40C3-A32B-665498AC89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ED4E070-12C7-4A9A-AB94-D73CA529E1DB}"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2903A98C-3509-4118-85EE-6730426C7E24}"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CFAFE496-6BAE-4F53-A882-50ADFC57C856}"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A2329B0D-C526-42F2-9154-F3020364C5DF}"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FA3126DA-8F48-425A-B9C5-4D3B64C28E63}"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BAB6CE34-C5E4-4921-BEA4-D0DAAE25FCF4}"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ABE13319-7E5D-42E3-90BF-6B487CE7F145}"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9C46DEF7-DE68-4E2C-A11B-30734E268EAE}"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602B873E-517F-4197-924F-870E28F5E947}"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933A47DA-5174-4DA0-A25F-FA5530384083}"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1895748-4112-4C59-9D04-145BE56693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0CA532F-F371-488D-9AD8-4A7608758E1B}"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964315A1-368B-4F86-B86B-8475E8E1CB8F}"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762E745-E43A-4946-BB14-7B148E769806}"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B3369F13-207E-4339-92DF-0FC57865EF93}"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A0D58686-9970-46F9-B6BB-700FD7A2F7C0}"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36E3D4E7-F787-461E-A807-5850D32C8A52}"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BC01AED1-1712-4353-8131-E0FFB7457FA2}"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9C306555-4FCE-4443-80FC-D6F14D0CE084}"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C71BB260-C885-42CB-BB03-465C6EC15703}"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4EA5FE83-A595-401B-BD56-A08BAA68BCA9}"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3618B269-70F9-45B8-95E3-2A4DFF63DE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20897FA-02AF-44A2-9933-EB959BE7E30B}"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D4FC4C48-4DFA-4D4E-B0B1-E62BC93FA9CF}"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ACEB371A-E575-4DF2-9465-BF686A711AEA}"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B740DE5C-D173-4501-B733-AD276F192EA7}"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CF2D980B-E2B9-43C1-BCCC-D61B851833CC}"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8195E798-C79E-48C2-B138-61F5D149D2D9}"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A7914188-54F3-4EEE-968B-ABFCB1AA9033}"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1D4A7B5C-459C-4AA3-A581-7B1C3EF12A85}"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0E54E736-259E-42A8-A8FF-98BE713F4AA4}"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FBA0D33-F3FC-4B51-9934-D62EFC872802}"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914D53C-1703-427B-BDC9-F359CDFD0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1AAB21-BA86-41B2-8C3B-D1A528F899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38CB666-7B07-4192-849A-CD97793B639B}"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CFEFD5FE-1835-492D-964B-BCB5AEE6BA2A}"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5EFE83F3-AB97-43B3-ADBC-D3AB307E67F6}"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7AC334C8-C2C7-45A6-914B-6716DF3645D5}"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390F97F-3DA3-4135-9080-848E246D12A7}"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1A9AACD5-A040-4361-8557-A9A84F513162}"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95551E9-DFB3-459E-817C-B40E8DF221CD}"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08AD635B-D564-40C8-8D41-70B01130A965}"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CC8E1150-7EFA-43D3-90C6-381E432E1EE8}"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0AC15AC6-5422-43F0-8263-5D7B7A1A8C73}"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FDF6EFE0-9773-4202-9758-DE78DA9D59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83F13281-13D1-4749-8FD9-30C7ED81B995}"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226F460E-7497-4C66-8B40-58BCE5FDDF39}"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3B43312A-483D-4DD4-9BDC-6E68752CF3AD}"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E08FFC5A-EF4F-407E-8088-FBF6614CAC73}"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96E110C4-840F-4184-9D2F-0E279B1F5554}"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32E4486E-F6BF-4552-95CD-62DBCB7D40E4}"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25FA3E7-9F92-4869-B6AD-22DE1D96B69F}"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AB5DFEA-BD14-418D-A113-7A5C9661F992}"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628A979-C18E-4A37-BDEB-30AF3BAA7E6B}"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39F18EB-D777-4F15-BAAC-18B9C85B7CA6}"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A37CE8FE-19B1-4271-BF9E-9E09FB48B0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4ED88AB-4AEC-405D-A2EA-AEDC81A6D212}"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D0C8F4BD-3948-4DE7-B347-759B4733CBEE}"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D40E1D2-0C37-458D-B667-6420FCE60968}"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B0306AC3-B19F-4C41-82C2-76BFF90D936F}"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E486B288-181C-4EE1-83C8-B726ACA4EEE2}"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F188654-2B99-485E-901A-66527B067549}"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C3F69651-54A0-4713-A306-27D5551946D1}"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8BE1B545-5CD1-4F55-B20F-F3B2305C973C}"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C53F05B-A1EE-418E-AF9E-57C33AB738FE}"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A4344BE4-3C77-4410-90C4-02D33B8506D6}"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A6C702C-171E-4069-8287-D95ADF6C65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A4BF473-D9B9-4295-87A8-C469423B54C0}"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8AC7820-B0AA-427B-98E9-EEA05ABE6C3F}"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ED958C8E-5C00-4D67-B2B1-BDCAEB92221C}"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E354EC7E-46DD-458B-9351-36ED3DAC9A16}"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FDFBF495-8680-45A4-81AE-35F766813EE0}"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AF876A8-AECB-4F9C-8038-AD018D067B17}"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D361A030-9D22-4F21-AAC9-A3C95159287D}"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8E9E49B7-F342-4948-A591-CFD8081B778C}"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8795BAA0-FFD4-4476-B82A-FBF84EB70FBA}"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C7FB971F-0A56-4B48-A04E-B0093A3ADD3C}"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1368E9E2-6D28-474A-9C10-68163742ED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5B9A983-3950-4A52-9DBE-407DA082431D}"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6AFCB32D-8F5A-47D0-897A-EE5DEA617906}"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5A833046-F2CC-4AF3-95F5-FBDB6E469B14}"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C1A906A5-D3B2-4E67-9C16-5B18147F92DA}"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4A874897-30C0-4F37-96B6-A0DCC3F32995}"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A0970F26-BA97-4931-88B2-1D2232765B93}"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E769E969-3724-4B09-AE6A-15A6C5F70ED3}"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8DE9AC2A-D12A-4C26-9452-D50F2B7A7F7B}"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D275BBCE-242E-4609-A149-4C2139270C6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0F0EC7BF-BEC3-4CE0-8CEC-C26EB5DD60E5}"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FCA22362-CD72-412E-AA0E-3B0A662EB9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F1146FC-B477-413A-BD51-2D62CDC49B4C}"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FF33C3B5-5F69-4B1A-8236-148A8063A8BD}"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766616B5-4AB4-4711-AA8F-66FC277F6792}"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E09CB24C-A2C5-42DC-91A6-A0A3F3284036}"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13E51310-0E0D-45B1-A5FD-FDF6159880DA}"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1F857C00-5B4F-4A3E-9306-D8C1689160E5}"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9B3F5AE4-A0D6-4791-A447-BE3888D7D7FF}"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D5336233-31ED-4E08-8BC8-240F0ACA509C}"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EB13D059-72C4-4C7D-B2CC-CEE003918B21}"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E2FF9EC2-A6E6-41D6-A896-F10921713B16}"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DADE0613-3281-4BE8-A32E-608ED697BD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F07CD0A-BA5B-45C9-8336-0706ECD19D4C}"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C7EA96EB-7FE0-4EF4-A586-1E533659B2CB}"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034D1E77-033A-40C0-BC28-3B01801658B7}"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E0DFA0DE-0838-4604-B4DF-FCF525A2B299}"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9DA3472D-78F6-44BC-AC69-2026878C461F}"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A35B7667-9A40-4E07-9001-F78F45C4E810}"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FB9C8B3-4727-446A-A253-B568761AB977}"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3BC4E4D6-19B6-4DAD-B43A-944E867BEFD5}"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85EEE815-F36D-46B5-A18D-35B097601C78}"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D7E7E718-FC01-495B-8BCF-0E8997EDCB0C}"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836A4BB-A2E3-4690-BE97-6C6100DE19D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B2D1A58-ECB1-4CF7-974F-7F31321ABC15}"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EEF141FB-4115-4C48-838F-873F73EB0097}"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D223EBEC-BA23-4DCC-BBFA-08C35B2A96D6}"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0E4F445-065B-47BC-BF2D-F4946F5A21A5}"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C77BFA75-0293-4F49-9B3F-B4ECA1624763}"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B260B31A-9C64-4421-8E47-435CA2EC7A17}"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3F155F0-C046-4336-B2DD-BE4DD801518E}"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82898E0-5EAD-4663-8BF7-E50E09CD2B97}"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2A70451-84A7-41A5-B1E5-FB6BDA75891B}"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414B024E-2FFE-431B-A47C-654B4C0496E6}"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BC80E16D-2952-408A-A18A-B9E5CF4D629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B8405E4-83D7-483B-B09E-16C25B6803DF}"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8CB082E0-E02A-4581-920D-729AD73DB067}"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067DF7E2-4BBC-4715-8312-2741CE91D465}"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BFAF9EE3-0C64-435F-B8B7-0C9C723C4DA0}"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C2A29254-26C8-460A-8439-54561AC7B113}"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491D1B6A-41B8-4FB5-915C-B63AF586CDE6}"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CEDECA58-452E-4409-A1B2-C820A2F7D693}"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D4143241-015A-4E93-A623-15EBEF1899C7}"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76626FBE-875F-4F64-B988-74D4811C0272}"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120B6E3-CA47-4427-BDAA-7D52E7D9F091}"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8BD3492B-DFD8-465D-B6EA-011927F0D2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9885CFE-6FCF-4F57-BD25-28FC7E8D6A89}"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C421288F-BF2D-492B-9428-7B00EC80FE6A}"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FC373B1B-8A25-4826-A5B0-F5D8189807F4}"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57141206-95EE-48C2-BC14-B0D2FA0906B9}"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23B5CFF5-6E70-4383-8552-2DC5D2E6AF30}"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55C7F716-CC14-4473-B6BB-8BF46C06DC4B}"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1F17FFEF-1FB0-4F2D-A001-C63A1BF62DFC}"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43022CC8-172A-4545-8346-B50B4432AFD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12AE42D5-5D97-42DC-906E-601F24E96D65}"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96A23DDB-36C5-4150-9C69-3C1211EEF120}"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17D8A356-1FC1-4595-B071-FAD15BBA64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D84C40-1DB7-449E-8642-8F065B09176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F52FFD6-237C-4CDD-BAA3-77F8E60C4108}"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9DA66A4-7112-4A45-BE43-BF43954AC625}"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04EAB27D-5065-409F-8105-FA1BF311C6CC}"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C4AEBFA-C15D-4A7D-9E82-4C34BBC76022}"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B7230D8E-86DA-430E-B2E6-4FC18B1F2720}"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2FE1C10E-3EE2-4F8A-A42F-21C204793B37}"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A831603A-6489-4875-B6F0-E782D8270978}"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A761BD6-20C9-4254-8563-CBFEE5698801}"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BF25288-446D-4476-8AA1-CF5083154E72}"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0B6583CB-38D9-4099-9EE7-9E3FBEEE5F19}"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F07DA2B6-8F9C-43F5-A3E9-EEA3894B163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C9103AB-D81C-4139-BB5F-88149B38A538}"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133FC8F6-884E-49FE-AA85-013DECA50469}"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71FF5B67-4D1C-47D3-ADD1-97026A3543EF}"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B293B5CF-81A2-41F9-963A-A4F7651AF87E}"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F771536-4631-4FDF-B59B-6243F65C302C}"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BB1671F3-79F5-4C2E-8CF0-E0AD80868A83}"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3BFDEA84-96C3-4ADE-83D3-B8D033D28858}"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494A04E-2CD2-43FF-BE76-4607B15CB862}"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E2E96D28-89C4-4322-BAD6-0A99E37ED01C}"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9EE8B80-EC11-41B0-8A48-0D45715F1048}"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3F87E14C-D391-41BE-BD8D-FCFD828E72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4F26CDA-C087-48C6-980F-A575627099B3}"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60B4BB4-CCE1-46DA-8AF6-08EA639566C7}"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7C31CB54-BAAD-4923-B4EB-418B854E666B}"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0049BEFB-7C12-4505-BD2A-20882994BBF7}"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016721E0-42FB-4E0F-A4D4-50BAD0414FFC}"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0FBEB9F9-7211-4747-968D-DF1E5BC570E3}"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30C8F6D-2999-4B71-B348-D61FBDBB99DC}"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45C917D0-C5D4-4C3C-8D69-DE5CEE5D0E7D}"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1034850E-48CC-4EFB-821D-2FADDAF53671}"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C3269BC9-0E7E-4A42-B20D-12A2DA4F24CD}"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CCCEB31C-1E7B-4D3F-9DC5-47F8855056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A49070A-16F5-4EE2-B192-F5CAA08B6A87}"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EC40979A-3E93-4AF3-939D-A24FEA206538}"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41D21AD1-2D26-498E-BA67-338E3214A21D}"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EA60BBFA-6259-4C40-9C70-3D934E3A56C8}"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09523543-887D-4B45-B2D9-93EA530F51D5}"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60CBA1DF-E09D-42DD-AE65-A6C5AF095320}"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0EA12F9-76B3-4B11-ADE2-2E14893FE781}"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B373E09B-140F-43C7-B1BC-6E3A6435FE0F}"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2820A1C4-CBC8-4E51-8C3D-C2FD3085276E}"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66604BB7-DBBB-4B42-BDEA-519A196FF64C}"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273FEB82-4A4C-4160-8538-3F818FDA87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6D4A5E4-6AE4-47C6-90EF-BCCD653FD6F6}"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42B16B52-33C0-4EDA-AE64-DD6900128957}"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A638D93E-4141-49CF-8542-D810D871974C}"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9F2950CF-2CCE-4B10-AA5E-72F424B5B1FF}"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EB00D228-1983-448F-B117-91DBC4CB2BA3}"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861457D1-FC88-4776-B2E4-B5947208152F}"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EE5F5289-808B-4783-AD17-74CF38F4242A}"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EA4C1555-89A6-4738-82B5-4AF651A1E8B7}"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06B5E78-F330-4571-818B-4ACCA0545969}"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4AEE078-8AAA-4884-8973-70FE27D352C0}"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B79027B-468B-4FE5-88B1-4E6344DBA0E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41592F9-B305-4D3B-9D59-28E9DF44B9A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CACE9739-B966-4DCC-BD0A-B21E22E3BEF5}"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6111B044-445E-4543-AFF5-2930C64A7F53}"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AA66E1F3-34CA-4375-8707-489087102169}"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F34B6ADB-8FE3-4CB9-9AC7-ECEEEC849EEE}"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C9B6C08C-23FB-4FDF-AF4F-F0C746F4D2A8}"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A4C15C70-A824-4BE8-A201-C09A31A19897}"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333EB8C8-52C1-4BBD-8B11-6E9D338AD64C}"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6E8E9F6E-0137-4847-8E3E-321A0BDD6880}"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3BC0D93C-A620-469E-B1D1-BE99082E09BD}"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2913682-B27D-4560-A2D0-BF4512C5A9E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83AAF58-0768-4E7C-8DE4-7F971A20F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4552CDB6-5CA1-4E14-BD0F-4B56AECDF112}"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054A6B8C-C554-4B90-8DC6-6E524DA088E7}"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4D0B1DB9-75A3-434B-90EA-B452458A27BD}"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28EB4F14-D105-4DA6-8AEC-CDAD657995F8}"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EC3E629-34C1-4089-91EA-D36EA5AC7C24}"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19CD2403-DD6E-47F2-A82D-1DF0C64A19BE}"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D3691F67-B422-43DB-AADA-EA1D13B97781}"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3BB0A92-159E-490D-B289-5CEDB7BB23AD}"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BEBFD1C9-6EE1-4063-93C4-25DFE9004A88}"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BF9D943C-5A0F-4717-B8A0-7C8F53077DB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2A35ACC-F2BA-446D-8AB1-ECBE4AA74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59EBA5A8-5981-468A-9BBD-4140C6560268}"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1BD0E0A0-47F9-4479-8B9B-AD6E8729440E}"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8CB49FA-27D6-4B3D-B8D5-3AEC449E12FD}"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5AA7065-E0C4-413F-89AC-68887A4F0152}"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B2C1641E-5FF0-4221-BB40-6107BA2E78DB}"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43F0A7B7-5ED1-4D2D-97F5-7DDC2797DF5C}"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B760A80B-E0DD-419B-AE7D-E6E217EEEBE9}"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E3563AA1-F97E-48A5-97D6-7CE8DE22CF98}"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8B7B5B9-2382-4DD2-A806-F60BA995BBB3}"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02EFE7D-A056-46BC-B022-7375F4189C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BCCC75A-A36A-4945-9D61-E134EC806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BD6AF2EF-A82A-4FC9-9915-D0B47B04CDDE}"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7E6BCD49-FB30-42E2-A5DD-CEBF71CB5FEF}"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D095C407-70DE-43D5-851B-769ED5A90DE4}"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CAA5D5C-26AC-4341-8606-29535AEF3399}"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27A6100-AE5F-4966-8972-25C4655E2A1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2525995-3B6B-4100-B912-76BEA43C5DCF}"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A36F3189-637B-41F0-BC4C-CAD291B9BB37}"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A467930A-8649-41E9-B766-369C6FF22A36}"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AAB05FDF-031E-4809-A5D6-D85CA9B52BA3}"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CD6321A9-0186-4427-BD22-594AD0A8E28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BD863D1-215D-4ABC-8E07-4BCD29B910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3A1A858B-C1B4-4611-9AAC-49AFB2091486}"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EA550E9E-35EE-42ED-B030-CD26E989227E}"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517C041E-8E42-4F2B-8351-05EA48D8192D}"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7A2327A3-2176-43BC-AE1E-82604CB562DF}"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99DC71FF-39CB-4015-873E-F4F37E5CDA7B}"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A2B46F7F-7FF2-4D39-BE96-1B6C8D861719}"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E90E0D4-7C7F-4EBB-80EC-C8F27326872B}"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70398E94-1789-452F-AE05-531723C9447B}"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B88D871-1BD8-4358-8820-5637E0167CB6}"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7C5BEEB1-E407-42E6-8399-96675F62DD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3EEA679-D2D9-4C8A-89D0-0B15CE54BA5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23A1FD8-7369-42B3-B6BE-0A90A32D6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F353F5C8-9BE8-4A13-9DC8-F545C1DE554B}"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04ACB1CF-05CD-4AFB-BEE8-4BCA4FE469CA}"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7A9B7BF2-C30A-4855-B75C-54BE41587FC1}"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6443774F-BD3E-4CDF-B1CA-1AFA923822D7}"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818351B0-87B9-400E-8E66-3BEAF43C637F}"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6F60D709-B5A5-4D3D-8B33-2CE8C42E12CA}"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02735470-D875-4A93-BB12-8BD16BA020FB}"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DF3F160-79BD-47A4-8A69-70E441251C61}"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3643494-95D1-469A-B851-C4416546778C}"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9441639-4828-4D46-8AA0-4DA079D8E82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3CC98DE-A5E6-4E86-B596-F5BD5117B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8711C38F-50B2-4620-BE6D-6E21183D600F}"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52A37755-3A93-4DE2-BB17-8F903D772831}"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31221267-712B-45E6-85CC-7711107A091E}"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BE500D08-4771-4D11-BD14-F9B4B4BD9D80}"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B5D15F3-B046-4FC3-B020-7373933F9D88}"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73119947-02B7-422B-8975-6D23AB50F8D1}"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C1C04D5-A633-40B4-980B-5581430D2D1A}"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866FC27E-A361-4078-B6A5-22995A27A8E4}"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3CC13AFA-2F65-4589-B1E1-BED2AB5CD773}"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12CD50F-D1E8-423D-8C3F-4BBCA33637B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99D4B83-53F5-4CF4-9BD4-4196E060D9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E6190E99-684B-4BBA-AE3C-4162765991A9}"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0FF26ADC-865A-449A-A80D-EC80EADA4331}"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BADCC37-0440-4371-81DE-103D719D3BED}"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F681FAF2-7E7B-4B02-94A1-3B3B8D5EBEA4}"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6794BAFD-4879-4975-BFF3-F5432DB33C80}"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5E742737-62CE-47CB-A130-B87024EAAD25}"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C7C3335B-A8F8-40AD-AB8F-2F72B9D190E4}"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6BD74020-CF66-4619-8334-BBB58E8D71BB}"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B4509387-6ED6-49AC-AB18-867B5C218B8C}"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0388D852-3895-4B39-8C0C-F9E87AE20E8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5E4EAC7-6EBC-4993-A4B3-F1DAC134A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1D4B0BA4-9F69-45BC-8995-ED0436B67C8E}"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5E594E4C-77F2-4CB6-B81F-D5FC0F8E148E}"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CAAAF5B3-9BA5-4994-A60D-FA7C67AF1AEA}"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0766D2A-BCB2-4DAD-B812-7A9E4C35D96B}"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E50AE80B-B9DB-4637-8EE3-E6DA5E7ABC75}"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E77E8141-4735-44DD-886D-305F1CDD3B54}"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869F1932-C91B-4588-BEDC-5F1350FF66CC}"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FA40DA62-F7D9-4E9E-B987-971ADEE328F2}"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023726C1-BD36-4679-896D-AFE91A1E0AE8}"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B8FE6F56-6B4A-482D-A69D-C2302A5FFC1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F7231DB-4380-4D75-AAC6-13B054350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ED50539A-00DF-468A-B13F-E930AFF3608D}"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11D53EFE-2344-4775-8C03-15F2BFC27FC2}"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AA239A8A-0CDE-4CA2-9678-99C1BFC068A5}"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7BD6E27E-C662-4497-A037-DBDBE9F92FF3}"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8F14E1F7-CD3A-432F-86ED-39B4025CD064}"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B16B6CB-A904-413E-AC0E-5410F44C357E}"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795677F7-A225-4F69-8171-96C50E1C9960}"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061159C5-A4EA-49B5-9626-A02F438E0C11}"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5748FB63-E2F6-4DE6-B4F6-833F0475B73E}"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515A4D0D-D67F-42FE-A6F0-BC616CDF988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257F0DBA-65E0-43E8-8BC8-52588FA1C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EF98383B-C8AF-4402-A857-3B9CE4599BCD}"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D9E0A479-7315-4BE2-858A-C46153C58C1D}"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C7156C80-BD95-465F-8BE1-FEF8B7790963}"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20ABFB47-D1DB-4453-964B-C4F2C1DA47DE}"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B12A68AC-DF7F-4027-8602-354DEB6C5487}"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DB77B58-9684-4317-B5EB-C0BCA7EACCFA}"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6FC6D71-4121-410D-ADC2-347544954440}"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6317AEC3-C4AA-4A54-AA83-2ECF225B7CA1}"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F63FD518-665E-4167-A627-BF4FDD1B011E}"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654186A6-CA50-41B2-89C9-9D519C4B3B8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5A53176-A4DB-4888-A007-B91427BAFC4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2D4A47CC-1353-4725-9323-01F6A13A3FE8}"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8E91D3FE-D784-4D2D-B008-D3A2A36A5E45}"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72BED33-49F4-47DA-9D7F-A5AD36A83825}"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DB9FD4DC-C9FA-4A9B-A30A-96277EAAB369}"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F79665D0-6F7C-46F8-8711-59AAB9242228}"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38135C69-044F-4780-B875-A08432AA9C73}"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C7EA4742-995B-4BB4-826C-6CF48735E2AF}"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0E253878-0710-434A-9FEC-48906C943515}"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B1369ADF-A8B1-4B69-900E-941920FEBFDE}"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E00D8BA-C7C3-4A40-8E9A-FC691AD6B81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F373DAC-752E-4723-9256-77B9B3127072}"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AC2C926C-7235-4E19-8361-1F42DA44D0AC}"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DF21F244-41F8-41DF-9718-BD603ABCDC2B}"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555DB2A1-7A0A-4864-8CD6-F8C1C7B03175}"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1E2763EA-1247-4714-823C-741F36FD4B24}"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B4BBC582-74A4-4D7A-B11D-48D8B713988C}"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93D8FA71-6DF6-4E0F-A99E-0C0CB75844FB}"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184B38B0-63A1-4479-93E9-F7C2C117FDA3}"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6C79DF97-8950-45A3-ABA2-234447CFD931}"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DAB3B256-9FB2-49CD-8B44-F19B3B58FF5F}"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9EAD9915-C905-484F-B602-690731DD9EB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CB107BB-728F-493F-A905-90DF8E9EB79B}"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328949F-1D66-48E6-B071-422173A45C99}"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9274273F-30DB-40F0-B6EB-256FFD9365FF}"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6CD47BDA-AC7F-469F-B476-870274A697EA}"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60C14FC8-AF81-46AF-8142-4C0E1D8F8665}"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E54D6BFF-09EF-483A-866F-FB33786DF0CE}"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01CA72B7-E044-4B76-B972-BD84ABEC8F5A}"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B61AC6CD-2052-49A6-B455-2F0CED243EC9}"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56C225FC-FC70-4730-B928-DF75D5BB9580}"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84F2807F-8D93-4227-9787-4E5A3503FF90}"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CF461B3B-E05F-4D76-953C-5D082DD4F3E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060E73D-8667-4931-9615-C30C2E1EC76F}"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001EF18E-A64A-46F9-AD19-AA7A853A4950}"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ACC0A6E3-E9BD-4A42-ADA2-481B4D8020D1}"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6072487-CB57-43CD-8C00-B80B6979C308}"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054D1281-1676-497C-A5D5-37FF1B13B3CB}"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9C2A29F8-C829-4C02-8964-467658E0519F}"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7B9AFDF3-B4A5-43F3-A871-0BFACCEDC642}"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60B1ADD5-2D72-44BF-8253-598F775A253B}"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8329AB94-7AF3-46A1-A7D8-B0D2C2615BA5}"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021F95DD-0D29-45B7-8D85-8A4157B3FCD8}"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E9375F1-6D9B-4020-9201-98DC7989B3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6A443C6-F047-429F-BD93-A6ECBEEF159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3EA21B4-399D-40C2-BCCD-C5980B1C2105}"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3976063D-53FA-4D19-84D2-33BABC833E49}"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3D661B4D-612E-4A75-BAA5-9957F61FAD6B}"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778B5D9C-1722-451D-B220-E5063F21ADF4}"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30CBECD-3D7E-4CDC-A87D-4FDEE7D1B423}"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816C4044-C741-4E11-A77E-F7EB5EE24D19}"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DB623D98-7EEE-4A20-852F-AFE5B16F45EF}"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DC370783-F846-46C5-9347-E53A2FB00C69}"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EB96FB7E-3CC2-4790-B839-C3E7E30B7C4D}"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783C6080-EAB4-45C1-A15E-182F4E342BAC}"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73715D2D-5ECB-404C-B7A5-D503389BD31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BF090DDE-BB0D-4AD1-B7F3-5F8FCEEF6ADD}"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D2F52CCF-5CEB-4DC7-8F56-4FDAA4A10632}"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7EC190A-AD3C-4CC4-BD0E-589F252E7C4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28AA808B-236D-4F97-8B35-87BB62B2AB87}"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0901827C-0E87-44F9-9BFB-C0381FF2A6D1}"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B9348605-75F8-4433-86DE-157D7D0C742C}"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5486CD39-E520-4EAD-81BC-0D6481CD51EE}"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36C6762-80D5-4146-ADBF-56C7A87823AA}"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F246106-FFA0-4B87-8DD1-70C7CAF3A84E}"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871DE560-2B9F-4CF8-9F5F-B88F94DEB1A9}"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8DCDB6DC-47C3-47C8-BE77-13023D4C9EA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784D2F84-5E90-42EB-8C33-41D138C034A1}"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D30E1853-A6A8-4B28-B94C-EED9E2553B74}"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3A33798A-0EF9-4293-A354-99E0EF82A86A}"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830A096D-8409-41EB-A7A5-EDB5904FD9BC}"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0C6EBE53-0A23-46C6-9F70-1DAA0008CDA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079AA1D-E769-4805-8BAD-FA1AABEABD46}"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F00A0737-549A-439F-9DB8-0EF5F22DB786}"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99139AA8-7148-40DE-BA61-257A94D188FE}"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720F0F57-562E-4160-9358-9E49571FC97E}"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F729D6E-F3FB-4FCD-8B90-795CB2F5897F}"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B9B2D1EE-7235-47CE-B738-BEB0B25730B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7A0165D-4508-4DCA-9579-46BC5D429D22}"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5D67FBF7-DCCD-4911-B5E4-97793CB51D3F}"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EA09E857-F0CB-4369-BF97-2BE413319BDC}"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F0758C6A-BFDE-4301-AFAD-5A8DFE628C0B}"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F03810AE-272D-4759-95E0-CBBADBA6E96D}"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31A52F0-E46C-4795-9252-FA687982BC9F}"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87A3A09B-4B57-446A-A69C-7399F1AD66A8}"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B5F188F-C086-40DE-9031-439E45682A56}"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B93A7A55-05C3-4113-9536-28D59BED9A0E}"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5C5C1794-245F-4B2F-B8F7-614D769CFBFA}"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611D1E76-83A1-4DCA-AA6D-B90D6992169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C08D64E-7FC7-439B-B270-BE06805F0A2B}"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0E47267-3FF2-464D-BFC0-659B2CBD6EC2}"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A1BC7CB-EFC7-42B5-BD2B-E9161A2E9117}"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E34A7E55-CA4B-4C07-91CD-B3A5ED6D8A71}"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D9556162-4195-4A4D-A158-61C1C4E518DD}"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88DBB8C7-6123-461E-854D-34CD30BD5347}"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E576411C-51E9-4BF5-9D1D-C74191311058}"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A7290055-C720-4D5D-860F-A12199C50FE1}"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B32E363E-1A9D-4084-948A-BB0D696620CD}"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B58AC40F-D177-4E90-BB12-C8A8F597655D}"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C842EE86-3DDE-451A-9ED1-CE629A6B34F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4471EC4-F2C3-43DE-BED6-17E924A286A2}"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4DD16C01-401E-452C-ABB0-5606982D38E3}"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BE9DAC3B-FFBF-432C-AE85-3A905A8EDFAB}"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9C27A82-68D7-473B-BA24-6D3E27E98E34}"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1B366118-B4DB-41F0-BD0F-1A07C77C3111}"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B5D16A6-9DFD-4A09-AEF2-13FD20664042}"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D5A183AE-0FA5-4CED-B28D-448565DA5935}"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A92633E6-D57A-4A6B-8DA1-BEBD251584A4}"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98D66750-B429-4E3A-BC4D-7E0835DCCB08}"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BDA11F12-FB6B-4D3B-B2AE-7194273172BE}"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1A4D6644-C96B-496B-9F61-72543C5DA8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8B64AF5-3A6D-4637-ABFB-253B6F80B7FB}"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06FB129E-2B17-4CFB-B049-53D2A733AB56}"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A843C099-C3B8-43C1-ACA4-8787998C54A5}"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618E2421-8385-412E-B381-BFBE09C8717E}"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4C0E0D63-FC85-40F5-924B-00E93AF8E30C}"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2BC21872-43C3-4FBB-B427-7729F49B3418}"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A89AE5E-078F-4FFA-8CB0-24DBD3A24505}"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E29DEDD0-2E9C-4A89-A757-306DA7C313BA}"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ABB3E506-486D-4476-99D2-3420C421C8BF}"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E777F18A-B4BF-4BF4-ABEC-12CAA210936C}"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878B52CF-5FCF-493A-9916-8C16A0FCFC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07C09108-7B61-4C52-8BD3-8C75C4C70ECA}"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7AF5A15C-5912-41DB-8789-436677FDC894}"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2A09132E-DDCC-44C5-AB17-5AC24C31A53C}"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1D6D310D-C587-4485-A448-9675C467EBD9}"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33CB7FBE-1696-4B7B-BC78-43A27C79FACF}"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B6EE5AA1-B09E-4B8E-9126-0E306E2D921E}"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535A0D0F-00F7-4E8E-8E85-F22E14B9A882}"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A6753B18-40B3-4FD9-999D-0FDC7101FD6D}"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010F4D2-5C19-467F-B852-089C8400790C}"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F2F96E13-4CAB-46B3-93B4-73CC3E89C143}"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4280C53B-EFDA-466D-B533-6CE0F95F62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AF509E03-8EAA-4AFA-845E-EC2210FCA018}"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2E59B017-3D0F-4F93-B95E-04EB0F785100}"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626EF034-2D36-4016-B364-7CF5CF9FA3BE}"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020536A0-4A59-4764-92C2-DFA38B0C7FCB}"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B8BFBE57-4D06-4FE5-AFD0-F8369C5EAD2E}"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E75E970-1255-49DC-B25F-23F3E448E626}"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EA26A96C-98DF-431F-8800-0F31C6D79AB9}"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64D91A82-9C55-4621-A15F-F725F5C64306}"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972913F1-9BD9-484D-8AEA-7C2A2B0AF575}"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F3D3811-765C-4F15-A512-2C4BC174160F}"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1A5416A-5B67-4B24-9719-C467EECD53F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98B9DDC-11DB-4335-A1A5-22FEAE9540CC}"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5A632B8E-149F-43C8-8019-1EF715147220}"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855670CF-82C5-4EE3-83B8-8814A06D9009}"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A736FFD0-4BC2-4077-9042-3E6F33034771}"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533EA74C-16A2-4142-963F-8250AE3AF89C}"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2F3C019-6E53-40CB-8F41-4203B1D21D6E}"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71E7D28-DCB7-42E2-B04F-92B84C95E24C}"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07AD6785-ED19-45F4-B104-0C104EB70D6A}"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A7D38258-6E4A-49F9-A66F-B864B5CB3142}"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580BF450-D74E-427E-BA73-9D18792CED02}"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F7963F85-35EE-4C6E-BF4E-FB1B10B04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7596C79-780F-40A1-B795-13954F454BF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8EB847F-BB49-4578-A290-2C2AE095B923}"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30F3120-3791-4F00-87B6-9C0F54183E06}"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A7422548-682A-4980-B4F8-41D661443037}"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2AA8D2F6-ABEF-4CA3-AC1D-EA39F80812D6}"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CFF6D4A5-40C1-49EE-B01A-598A0939CC67}"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CB61CCCE-B705-454A-9D12-331624E8019C}"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C55BCC54-432C-4E6C-A5BB-25C23676F4E2}"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74203788-4569-4338-A650-2BDF75FD3B8A}"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D77FBFF3-5FCF-4C0A-B332-7AD38477FFBF}"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13F56876-5B23-4AE5-998A-00B2FB396F14}"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E95E58FC-E2C4-48F3-BA86-B1138D1D06B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3C4BD4A-63E4-4D66-B6B5-431AFE9396B4}"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9B0518F3-EBFA-486E-8BCC-05AF3E9A75E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5163EB5A-FD73-4B09-95B5-E8C44C01B5A3}"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3A05685-FB90-498E-8932-90671D223490}"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06BFAA6D-82D3-430A-AE5E-A7E76C027FF5}"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6EA30F24-2708-413E-B58E-3CF602586CE1}"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0F6B884F-9A12-4992-AB82-21B91A4151ED}"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44C06344-1B3D-4821-9BF2-AEAB3002A00C}"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CE77D5B9-8D4B-484E-B17F-47F91EC6A5B4}"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F4A50BA0-6C8F-45DA-BD0B-701D1539D0E1}"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BCB56F8D-4357-4FE8-B0B2-801D5997706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FC703DC-BEBA-4F80-AF3B-4FBD9FCC8BEC}"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813D99D9-9C72-407D-A752-57B884739530}"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4283387B-1C5F-4C92-8A46-1ECFAC7C13A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73C50829-8589-4BA6-B2FA-B1F6BAFBCA6A}"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0C8DDC5-E676-4DC4-AE74-DC8F9A8F2370}"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73362328-61D2-447C-89DD-7682DBE6AEC0}"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E7E8836-7057-4A4B-9C6E-AB6BD0F04633}"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94B9C2A2-8A04-4BD8-89BF-C3384427404F}"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8E758C7B-818A-4671-AAD5-1A9F82EA9954}"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43E8057E-7BE5-43A6-B432-1D0E3B2E94A1}"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7A26F989-BF98-4920-8022-0E1E8FE5277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27D3F38D-B80C-4C2C-8093-981C84886CDA}"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168C544B-5129-4217-9170-AD71E583F192}"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83CC3407-D425-44C4-9580-7D73F8673731}"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EEEE972F-ABC3-4DE7-855B-7C4335CD959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6FFAB0CA-5FA2-4B81-BE18-1F306A5867B8}"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3D3817CF-2D21-4695-BC7C-E95143155631}"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F07E2D07-1AB0-4B85-B6C8-13CED1E47CE1}"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F9F82D88-D5F1-4F51-9CF4-C29757426C0F}"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3F5967DF-5B19-459E-A24C-97315CD27E9A}"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8AC0B853-95C0-494C-96A4-71EBC42A35E5}"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A6AA5CA1-FB32-48D7-B935-50CBAE29471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E2A3EB67-BAF6-45B1-B40B-683AC7257686}"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61F5EC85-AD94-4C23-9A1E-2BDBE832DC48}"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BA6F7DDA-C75E-474F-91C6-4ED945A97C55}"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EDE796E4-2CE4-4C0C-87B9-D34D01F3EBB7}"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53BAAC27-5611-4151-9F3C-FF372B6AE7E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AE4B5C42-DAD9-4871-ABCC-8E7652EF3E5E}"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3DA5CA3A-CD48-4F8D-B1D6-A2E960C08858}"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C152C754-73A8-46B2-BADC-F7C6C7909072}"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C6A8E5E6-0B1D-4182-B8E4-82AD0900346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1E2C9E16-E53F-48A3-A40B-3DD59430E29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249BF5E9-4DF5-4893-97FE-397B8B1B3347}"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08F6F86-E1D7-4686-BC88-82848A8F587B}"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90673DD-496B-49A9-9FD0-E782A45DE9A7}"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7F75997D-A69F-43CB-A7F9-23321A53EDDD}"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5C50E50E-125C-4385-8378-7996189638DE}"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6D701FD-798B-4210-8372-DC21D48AE291}"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6CD5A15A-0BCC-4273-8572-F20E600403D6}"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22CA42EE-DCCD-490D-8B6C-C92198C3BB54}"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9B1E86D-6672-4ABE-9C6E-30BE6896921F}"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FC89CA1F-E343-481B-8C48-6168D75D86DE}"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615CD1A3-B378-4702-A2C5-3BA845DCCBA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18F9BD89-11BB-4A43-8578-8C4F3F763B1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D03C7CF-BFDE-4FF1-99B7-6B9EB78F6AFF}"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485DDC30-2176-4A38-A7EB-BA1DA03D081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440D48D4-118D-46A7-BA34-828122F9A4F5}"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110CB159-0494-459B-858B-C974816DD601}"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CB11A6DA-457E-4CFF-BEC4-FCDE62C50CE6}"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4C8502A0-AFFD-4994-A522-B3C759E856E4}"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583DCF30-ADB4-4011-AC45-5A923CD9E44D}"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997FB870-CFC5-434B-A258-2A8A6F3C9E1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0AAAB30C-527C-435B-9177-F28DD13A34B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5FE7E08C-9494-45FE-BE55-0AFDF59C6F3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230B210B-700F-40E0-ADF1-A13D7C76AD53}"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8B5B9642-4659-47FD-B860-42BA9FBFC024}"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E2F99772-EB55-4AD0-A929-DC1B7A52F9D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26603E0-8CEC-46ED-94CB-06E1B01D3E5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EBCD334-DBF7-45E6-903A-AFA18960917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84E46E0-F885-4358-B8BA-C53E1E95E73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C3BD1FCF-4A47-479D-B48C-F52DC2F0F70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2AF6F0C2-4176-49D8-BF17-614CA9FFEA0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6BD799C-54EF-41FF-BEF0-56A50503ADC3}"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7E0152C0-94D1-4FDC-A5F4-1A7F60CF74EA}"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737BAD35-2126-4E45-ADC8-C45A5D9353FF}"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5CE2498B-B93D-4982-949A-4F2BFC84606A}"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579D157E-9756-4023-89FC-F3669A503A5C}"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B8305E22-3815-429B-97E2-5012DA38065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B87E4F0E-DD2D-49CC-A4F3-8DAF6D54F57F}"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CA1DCE67-628E-49A1-B3F3-BB3434759C68}"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4B56210-0193-42A2-8C0B-DC2569391F0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A315505-F837-448D-819F-F0A98E71293A}"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7099718-0469-4228-BB8A-A6AB9D2A06A3}"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0EBC43C2-E017-42DB-A753-AB7854DF229D}"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FA85476C-A167-4598-92FF-E6E843966848}"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6FDE0203-B179-4426-893E-8B370707F9A6}"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2B04A950-8D70-4049-8800-096F77D0E92F}"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73622DE9-0861-4B32-AAB2-C101B1B92541}"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57CD1891-1DD8-4CCC-90B5-F5C95F8E68B8}"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BC5EF3B6-56CA-48D1-9591-636BC8C1E3C4}"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5E587A9-0466-4539-BD2F-DF5087187104}"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9E5BF8FC-53E1-42FC-A51B-F8D76E0D2AEE}"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002574C6-7167-4C17-8CBC-2CA92CD30DD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9925984-EFFC-4BEF-B6A3-16400FD0EFC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7D9FBFB2-D4E5-4BEC-B7D7-34A7410B43C9}"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D8C9286F-AA33-40DF-A042-624231AB338B}"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B67AB812-677C-41FB-AAAC-D54EC2648C0E}"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3BBA3076-706F-4FCF-9B76-E7283CB18EF0}"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F12CF15-2A42-46DC-9B4A-2480B4D5A08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DEFA82B5-18AF-43F7-AED5-8D4BEDD1EF3B}"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82407786-638C-4CAE-9C0F-A1CA20FDCBEE}"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0625994-FD1A-4FA3-94DB-102932DC0DBD}"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B12D6B65-419F-411C-A61E-585C446700D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9DADDAF4-EBC9-40C2-A4B7-66090468B01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F9BCFA13-5C13-4A34-B985-16209192733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523D96D8-ACCF-44E5-AF54-0ADDFDDB46D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DF23B94B-8F98-4CB6-8DC0-5AA99DFF8A7B}"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D645CFF-32D5-4FA1-A212-77F0C5976AA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93C0FBA4-345B-42D7-AE17-5A27B824D81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FE419B37-DA35-4931-9B7A-01B05DC2D02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29632D4-85EF-4BD7-ACFE-6849AAC55B13}"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749C50FA-E87D-499F-A04B-A6CEA5E7422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DE90A81E-1C82-4E29-8AEF-4C12218C2DA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E1731BBC-0E8F-49E5-BE98-ED37BD667590}"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55369145-4B1B-4AE1-A768-FEF3B454ADF3}"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C745E36A-F23F-478E-A768-761D0785935E}"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00F9E05E-1A2B-4B63-9452-8FEE2F74924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B12EA06-7179-40A8-BB0C-21FC9D2F979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7CB8431C-B9F7-4C30-BE26-B90B74307F1D}"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C05BAE22-0A6D-423E-A69C-37A32F810CA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3456E31E-5D65-40D4-88A1-4FC51C4E669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06ACB63-FB8F-4965-A372-759D2557149C}"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B3374275-64DF-41F4-9FF7-F5D7742E9634}"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6E77351-7C5E-4B4A-98C5-904E520A33C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25E809A2-3BC1-4684-AAD3-EECA39E9D8E9}"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5EC72F76-8013-431E-8440-A30EEB4E4F7D}"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F13D6A3A-9CC3-4D90-A569-226EBF433552}"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E7416348-1895-4B65-9144-9CACD21481D8}"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7C395C75-B26A-4769-BFD5-D148E737820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F4318164-27E5-48C8-ADA0-E6FDA071975B}"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8AD2FAC2-12D5-4846-BA1B-4A63863743DA}"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865DF42B-EA38-47A2-9E18-B1D469EFAD6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FAE7F0D-D679-42E1-B5E1-18980943C28B}"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B006C849-CDF0-4E44-B9F1-424DD6C53A6E}"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08CF35EF-B070-46C6-A466-F2812520DBB3}"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E05C6337-AF9A-497A-B7E0-82131E2F175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6B9098C6-5252-4F2E-9887-B3E0DCBB479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20A770B8-052F-49A1-8223-646DB7EAA3BB}"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FD20BC5B-BA13-457A-B91A-77B26C1C8CEE}"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C897AF99-377F-4E2F-B02D-66959A067A55}"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7350A8F8-FA2F-4E84-9120-95C2B49901C2}"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0A6C1CCB-7384-41FB-A5CD-DBA9A38251E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1E4C8B4-FFEE-4FEF-9595-72B9CE1412D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A387F81F-C2F4-454F-9A1C-125F533762AD}"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EE0BE3A5-9B83-4D18-A92D-47C298B5CB0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837C4AAD-ADD7-4B07-B77D-0498DE16460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AFE0F768-AE1F-487A-B3A0-A59E4C787420}"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1EAD69A6-2EF1-4849-9AC3-320F9680690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72F9EFFA-1198-4D7B-8DDE-DE05C4C6FC3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11473DF-BB0C-4764-9F7C-8C714D8C5B4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99319504-EF63-4957-8F01-438EF61F520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A5BC7CE6-3F92-48AC-BF4D-53C5A2B133B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91C42842-6CC5-43B0-AC04-13782E84FAD1}"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2AABB245-3531-4082-9C1A-552AD99738BB}"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96350C22-7114-4DD0-9131-F43FE5353EDF}"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4CB7813-B818-445D-B7A3-726AC9E598BE}"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8EDFE427-ED5B-4B68-BCC7-148986C7005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6150D54C-418D-4285-94BC-24469169F3E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7BF42441-0924-4596-A4A1-C6C975E8DA55}"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333728F0-68C6-4D07-AD82-A873A71EA84B}"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E37CDDA-ED96-4E53-A1F7-CFF00890F9B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AE8580D-3C21-49FE-906B-8B307681457F}"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6B86E011-05D2-4CB9-9FB8-5A1D205BCA1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60C3264D-33F7-415C-83E1-044BD6509D6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B6DF90F8-CB9A-4787-9597-6EA5E33FB101}"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CCA7A22B-E731-464C-8214-9495FBF7C135}"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3838F35F-6D6B-4396-8477-F36BCA95575E}"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ED58DA7C-CA77-466E-9FC5-198DD3021D83}"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4F247E1-0C43-4815-AD7A-4982A15ACF53}"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3658327A-2449-4210-B83E-397F9A04DE3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F5A8E485-11A6-48A9-B5F1-414DFB615CF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1E11662B-A9B0-4DF8-ABE5-03FB326C8392}"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A040B447-4242-445E-97E2-66CB71E6CA1E}"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A111D3DE-2FBB-4318-B8DF-2AD63DB09270}"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6CD9BA6C-9DFB-4985-8AEC-1398CFB37DC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CAC657CA-DC33-4791-B287-C54908F3E500}"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A3FC497-E76A-412B-9520-14D521604A9F}"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FEE18788-59D7-4537-91AC-4136FF44E11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B52E0EF3-9A18-4086-84E8-D2E5B416EE91}"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CF75CD9A-8849-44D9-8F3F-CEAD725E3197}"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31BC0B7-523E-4037-90E0-DBD784D1942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431B3202-7F62-46AE-A7C2-DF88854DAF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803F157-F06E-49A1-B967-AFA2182375D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8FC59FF4-AA35-4233-A146-69C9A33893F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51ED610A-954E-4B4B-9E0F-DF12AF9E479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9D5E9CA5-8545-45CE-8266-BFD83D32FBD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3DE7E29-0EEC-4DB8-A465-2DA5B7F1E50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55DF3895-8B25-404C-90A3-05EE1EE4C5F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FB9FE0F4-DBF5-4FF0-A4E3-D1D2E2396F6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67802F10-979E-4EC1-A5A1-7AA1D74EFC2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0859EC3E-92D1-47CA-87EE-8AD8FE09A22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1140D768-90D5-4B8E-8050-BE16514C6F1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CE8E5FB7-63B8-4560-9B22-0DA43E3B4A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004B6B-9127-41BC-B1C1-96E7BEF72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8BF5A0-7A65-4CEB-8DA9-0C1184F9C8B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08A79C1C-C0E4-40FA-A443-CE31FD5BF61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202CC9F-B24A-4094-BCE5-9562CC1D4D3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4DBC7A30-7E4F-4F63-8BFA-D19590EFCD6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CBEA2DFA-6060-47DA-909B-93C75D0B4DA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14CCC7A7-D866-4C0F-9287-0C7FD3A27C0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2093886-97D8-47DA-B7FD-E956317B206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D7CC099B-9C58-4417-BECA-E7D968E4CA4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1867EE0-F0B9-49BC-BA35-EFBE5A1CB08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C13B495-BB52-4CE8-82D5-2992F724F04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7A055904-03FA-488B-BE8D-06AAEBBB4C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0151B9B-F9ED-417C-A42B-8A462E683A5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A39D7D7-12B2-4F06-B42D-903AA30C5FC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B054504-DE4E-4D74-A5BA-23743346A97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2727BA3-02CE-4108-8496-573E5118344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A13BB8E-78CE-483D-9D65-D145BAFD32A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3511E7E4-5098-45E1-9F71-606A456CBF6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3086165A-A91B-4D51-9D38-AF7A0CA2E65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1756EFB3-5E06-46F0-ACC9-031A8643C93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9327654-3D22-4CAE-A037-606B556CEDA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7283F0EB-3B15-433E-A145-505958D55F9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B982CE2-A525-41CD-9A84-1BBBC3A19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8EC3E6D-DD19-4EDF-BF54-7D805524315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01F9EAC4-2CBA-4BB2-8F78-1BC1B833F66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EF3D94AF-3C13-45CE-A3D8-F72DD1B66DB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F5A36FFC-369B-4E97-9BB7-0AB01AAF32A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4B7E876-BAFB-453D-A271-C2139ED314E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7FCF805-FC60-4F09-9C0F-6957F2D1AAD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F4F7C9D-88EA-4704-B5D5-D81E82105BB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A5DBE39-8E15-432E-8D9C-7941C5EC158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9D412C0D-283E-4782-BC60-F83BCCAB9F8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A9FD3994-EFD3-4C1D-A0BE-3177BFC2351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7426FCE-4FE3-4686-9685-616614881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F256371-5B01-4738-A54B-870D449AB70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F9547D7C-25F2-46F4-9E86-A45349A9940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C4299C7-3615-4C00-8DE6-08148DB4CDB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56E28E35-7786-4B7F-A810-942FFE422F3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B49CEED0-F0AF-412C-971D-25859F7B00B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752451CB-984A-4182-AC26-ACF3E803514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3844653-6E23-413C-98DA-03BCA9CAD46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2199762-0271-4726-881E-C4C46675568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B90FC24-D31A-44FC-965A-F5E4DEB78EF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95F2AB99-A484-4BBE-B674-14F1C300506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DB15E373-8D19-4BE3-8473-07833F361E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F04CF09-FC3C-4E49-8407-1561D4DB47B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3F99ACE1-C943-450D-B570-DC63D998524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B5C7433-DBBA-4C06-BE4D-99E93D8646D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84DBBD78-2172-486E-BDDB-C5A44B3F501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C5384807-1BAB-4522-AE1D-384FEBE8B23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E340F219-261B-4DB2-94A1-1BD6B134D78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9B1C007A-D53F-4544-8551-FF6FEFA47B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8883FBF8-82A9-4460-91D8-6D09BE5A180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8B117B4-77C9-4451-B601-09937392BF7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8E17C44-026F-4839-88B1-5A6CABAF29D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66AC4FE-F54F-4F73-AD29-E8B5FF16AF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11EC59-069D-4EF5-9DAB-2D5CDBEAA97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9F010E2-497D-4C24-9171-9237C905B8D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17370CEF-B1BB-4476-9951-B5C671672FC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008E2289-C42F-4F18-9B88-60030EB8181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1FD4526-EEE3-4359-B753-DA729C5C781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EFF6B312-B782-4548-A058-0196A4B8F9D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5855D2F5-CEF5-478C-8689-C42F1C2EE7D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C82319F-2083-4C82-AF44-301B78979E2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6EFBD218-FCC7-437F-BB4F-C8793EBFC78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8B306EE0-4A54-4C7F-AF3B-1E658C0B1D8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1949929-5CEF-4CD2-9772-84FB863E0A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2BF0E1-6C25-49B2-AF6A-B6A2776FED4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6AD5DFB-17B3-42D0-A4CD-08DE3F1B5A5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F135B86-FE3A-4860-AFF8-83C2C170655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06B72D7-892A-4C64-A1CE-5E2AF73D238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8A086778-B0CA-4783-946B-76EA0C85B1B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7B87E2BC-6EA1-4C85-B08D-8C0F34B5108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7359594-2AEF-46F2-A141-BF8C4B38AED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3959739E-AC96-4C53-B454-0D1DDB74257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EC24BA0-6BE4-4A22-8297-4D06E6C98AC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F92775C2-0025-4D9F-B08C-1B90E5D625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8345C71B-9F72-4CBE-93D0-10EA275307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685DC5-9C2A-4B55-8E11-B30F75BE1C3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65FCAFB8-3951-4FCE-944A-F70ED119E93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9326546-1A1F-4FFE-BEF3-3BF11FCCEC4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9746EF64-375A-45ED-A20D-280463AB7C8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7D1C0BF-4F77-40A4-8E15-31500ED6F01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0DA6A63-FAC1-45E2-A15E-940EADEA200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B3230709-2244-4880-A33F-171E0EE2302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6556C5D1-5BB1-4448-A756-D53FFE33213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4455998-367A-45C5-84A3-CC1D4E45916B}"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E5F30EF5-417F-4155-8A7A-D7D78C7E323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28D86ABB-44B7-493F-9ED3-5A57C85E36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AF3B8E9-2585-4B0D-A794-FE3F62BDCAF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A956E53-2491-4784-A807-944B5817D60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77A3CE2F-0133-4B8D-886D-4A931F7B8B2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89B3648-1D2C-456D-BB1F-4D32F901D8D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0E67D7E-BD91-4FF1-BADC-D0F8BE2D81B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2745ACC-ABEA-4914-84DC-6E3970A406E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6547D78-2CF7-42DD-B833-36F3D242121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6FD467C-8534-4E02-B518-8D9EB0A7266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2087496D-C8B2-4262-8BF6-B3A99809E69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798A293A-90E7-456E-98C5-8D7B737F6F1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AD7D079-A3A3-4C2A-B628-4191D8BA4E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D971C8-429C-4604-A4BD-39095E2261C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D4AE2D3-92E9-40FA-BD4B-6B42E1B892E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3CBC3477-FCEC-413A-B7D4-AE5B23E56AE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21CE3C79-48E4-4360-937A-ACCC7D6835F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256CFAA5-2C02-4A91-A529-D3F1313E6C7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22D220E5-1ABF-4817-A033-A9F20887AA0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25AECB8-4B6D-48DD-8A18-D6C3E581DB1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84EF263-23F2-4F90-9D4D-2EA52FD470A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B0F70A7-337D-45FB-8D5B-E84EC7D4B41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A2E357C-57A6-4A12-A5AC-6D2E6EC459B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9B9D8A16-077A-42A3-8750-488E6365D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C6F345B-6772-42A3-809C-B52F24E2CB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0DAB570-A666-4F40-A179-661FBC93EBF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9BAE628C-5539-4DEC-8C6C-263FE7ACF74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663A882-04A5-4B29-A3C3-04B2B41CDAB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0298965A-C506-4A21-8D65-8C108F4A502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E74F4399-A361-46F4-8354-F1F739C2FA2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9126BC8B-2D34-4B45-B93F-1F9967B4974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86FCEB09-28B4-4D29-8C0A-69E9FA70C0C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7DBF2CB6-E071-42BD-8069-9C9E627A7AE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CD36B4DA-777E-4B88-943A-017293E7337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6D03DFF-0EC7-4A16-95DF-C15CD7ABB91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9603CA3-8B64-4286-BB3E-4BDECA10D2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903D377-630A-4E75-B106-F7B8E7705A7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B1B5BE3-97F2-49AC-8C1D-24350071C4D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3F25537-5746-4B80-8A88-CE190DE5893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9155B8F1-F408-4D62-BE89-586CC12915A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4C5E1B7-DC84-4375-B44D-91A1239622E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CCA4733-A545-466B-B3F6-80C8D9B2FAD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2EE45354-CCA7-4B9F-B717-B2A6350CBB4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CAD040EE-F0AC-4EFF-93AF-432E5966A10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AA310EE0-BA27-4FEC-9C37-A761D1C762A8}"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633B62B6-CF80-4624-B60A-4C17D1B9E2B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ED435C7-ADB6-4217-A78E-736D57DC08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7394A57-AEAB-43AD-BC6F-C052ABC59B9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6B6B223-C92F-4730-8884-33F1588146B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DC332C48-6847-4DB5-A503-863633DCADB4}"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F0FCA10C-7DCB-44BD-895D-1948652D65D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2F1F9142-D31D-4FF1-B9F5-13201F3D2AE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6BD515C6-A5B1-4F13-8935-CB059150620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4B365E4-F708-424E-B76B-BF3EDC6FD07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1974B0E3-CA13-404A-ADD7-3642D9DC1BE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38FD14D3-12E9-4C60-AD9C-B6CCFC34D01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3B32ED5-2230-4ED2-B6D1-32E7431CA0E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E7105225-E2CB-48AC-8EF3-AE24503324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168FD07-2292-4C58-B83C-BBE1CD73DF7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0941416D-336A-4207-A6E8-FC109AECC20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29631D9-CDAE-4CC1-9CAF-96D91B6E5CC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8FAB970-99A6-4915-8B52-B86FED72AC0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9EF2EA8-CC1B-4B52-8267-CF6EAF10DD4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D612972C-6CE3-4941-A3F3-C03AF9BC4BA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8CF50164-9198-4033-A014-F3A18ECE9E6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D719D3B9-A721-4B02-99E8-4D8EF7FB486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4411AB6-0864-4936-BE28-7070CC05D77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9E827891-1434-4103-9D88-D1B787C5025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7B119DD-3EAE-45C8-B3B6-6ED78B8678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B251143-942A-4003-B519-61B0E44BC7A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FC9F7BDF-34C6-4724-998A-30992F52623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008ED0CC-284C-4434-ABCF-CA5D23DD028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556447B5-F681-4A08-BF83-ED991EC81E7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F08CD387-C6FD-4010-9323-AFB1FDAB9D9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3B86175-5ED2-4EC8-A3E9-24C48D8ABF9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9ABB6096-98A1-48A8-8BA6-1AE59EFF479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EDC7E477-B550-44DA-8ADD-83E72F3C7ED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CAF35D30-8786-40E4-A679-CA0041325FA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20ACC595-8F31-49A0-A186-931ABCFF614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154E6D85-8027-4A17-AAA1-E3FEFF90AC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77C2259-C618-426D-93C2-E8FA02BC79B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B133510-B71A-4355-AB8A-D35781E14B5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774FBFF-C85E-4CF8-94F4-C78B832112C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9A7A862-BF5B-444A-A76C-EF68EEF5A70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430EEF9F-7763-4F5C-AD2B-139058504B4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FB4F9BC1-1B14-41D4-8CEB-7A99F329624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624B51C-3855-42B4-BB36-57A3DC7456C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C6AA85B-5DC1-4D9C-BCC0-5AC41847355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D2FF576-6A4D-4A62-8C3E-A700C80DC43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FB6C0065-ABD1-4C32-B278-7BE56C522FA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82E7BC73-3F16-4D39-AE82-189BD47FC3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74D0871-A211-40BA-AB63-889170C30FF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48D3A0E2-026F-4E23-ABCC-29982E8539E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A9EEAB9-DF57-4C49-8920-54F597EE592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E4DD3CD1-AC56-4D4D-9E10-5EDE03D07A1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A569C2B9-7DE5-4F64-A6D0-D682388C8B1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32FE8ED6-3A1D-4662-9909-9A7167D3435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17BD37D5-1596-49B9-84B3-BCD1ED5D13F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BF28B43A-BB1D-49E5-94DA-BFF28A0B9F8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FA9C09CA-5CBA-45FA-A039-A9D79F3BCA9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27CCEF1-541B-4C72-A8AD-46E9A5DEB64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1C4B9C7-8F57-44B4-BA56-F48E01431A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C73D3-EDF2-4D6D-98B2-1F74558E59F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93DE2DA7-7369-4C57-A4AF-781FBC3766D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806167D6-AD71-4C37-BCD4-9F8F6990A33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8EC514E4-A7FF-443A-9138-63561F42E71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DF6E4DE-E05D-4459-8A65-CA98801B943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60C46EDF-6703-482F-ACA2-EC39EAC14E9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E1B843CC-A9DA-45FF-B937-A769A024E4A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DB29DA8A-440E-4291-895E-75DD959A8BA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3EC5CD45-6482-4918-928B-FDD1F2DE1CD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6EFBED24-1436-43C8-BB14-C6FD8B1C0FB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F85B526-B42E-401C-8519-8325AC068A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BE10063-5947-4C12-A5B9-5C56919FBC7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7E56C52-774B-4915-B8D3-5330BDBE9F9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342520C-54A6-4C64-B03A-11EF39B997C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8C353FC7-9185-4231-B47F-DC84F7B4BA4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CF8BE861-81C8-4158-83F7-97334651B15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EF49C976-4D78-47AF-8D34-23A51E5B6F3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3BEBFB3-B857-4718-8072-EDA6161CB84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8BF4127-947A-4CC8-9680-9EE92B0F04B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22C241F1-40AC-4913-8B64-B9505693C3A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66FB2E48-F71D-4AF5-8659-D64AF6A8B6C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44082A9D-3A5A-41AF-929B-140A7F7100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7534D1B-5DA9-427D-9F80-2B145EC2CFB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26F8938D-FBE1-4752-9C07-76EC5DC8744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1CB6AF6-58DC-4ABD-9A38-D68C556AED4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127754FC-C6BE-4698-A11D-F5E7D6F3925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2AAD448-CCCB-49A6-974F-6635FC41AAF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98BD7878-CC18-4B1B-B8F6-BA468C2F3E5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5450FDFA-D813-47E4-8CEC-35F78A8D996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D2094DFB-B073-4CCB-9569-618C4BD5C4E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2539926-F6CD-49C9-ABCC-8BF030A628A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83FF2EBE-AE25-4C40-830C-0E7A19610DF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BB9925A-52A5-40C0-AD65-B91E9C97B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1A7944C-62D1-4A35-8BD8-3E88C4195E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1012DCD-445D-4147-B1F7-F4A756E49EE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B371A8F4-5E02-475B-9816-5ECBC47BA81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60D36752-DCC5-4BFD-BC64-5CC742C7045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6269B014-8DF5-4FC4-89C8-EB29CA6E536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5351745-CC74-4B55-86F0-5D862CAA3AD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0EE33B9-C52F-415C-9397-53DC16C59C5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39101B2-9AFF-460D-AC1B-CDF57CB065D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6C6CF4C5-1FBE-4F90-A789-8399E917D40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1499BC4A-6604-4782-9407-D0EFAA98157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625357CA-2DB0-4C2A-A619-9D051D3A5F4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54352D23-8D2C-4283-989D-543D28B51C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50AC55B-9042-46D5-96AB-C25D279EC7BB}"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D0FDBCC-9041-4F75-9608-9BDD9B490CA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91CE43C9-8BE4-4116-A15D-43973C5D3F7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7E303B5A-992B-49BC-92A6-41905A45DE0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B8C55474-A5B2-4AAB-8DF1-E6E51B48EDE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A852A0EE-D418-4A97-B9EC-C9B2E8A6B96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68192B4D-708C-460C-98DD-2124E9060E7A}"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20154DB-4C3C-4ACB-8D8B-DCF71FBA147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9B191F1-91FA-4E72-99FD-05C281428A0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E37364DB-8477-46B4-BDB8-02FF936C5D5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A1C4BCBF-3279-468E-9888-182F1DB60F5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F700FFF-85EB-4C2D-BB9E-7A5E6F3F420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40602FA0-9EBC-41CC-875B-9FDBDCF7154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0A2FBF3-7F06-418C-98AB-AE3C863B52B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4818D93E-A250-4DFD-B689-336E434F790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F16C9F74-1DB2-4008-B19E-B94104086B6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84F9C65A-8460-4B04-9FFE-C358173ADB2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8938ACEC-6A4E-4B46-BE1B-B84E56B78CE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1E37AB9A-2397-41D2-AB72-995C7C801CD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FDF1439-D251-47A4-A8EA-633EA422A90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CAFCAF1-CDA9-4841-A499-BBEC931D100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CE3875B-477C-4F50-9D69-281CBFF37B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879D02F-7C29-4B35-99C4-5EBF14EAF88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92757CB-D2BA-4A72-8382-CB8964E7631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474445D0-54E3-4A8C-A3AF-5EEFF7421FE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463C443-D609-40B6-A57F-5F691DD25F8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E32D73C-FA73-4844-A0E7-4BD0DC75477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EB5A97D-8A1E-438A-9BF5-763FADDBA22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B83D23C-CBB6-4D11-9C1D-1EC903A6E4C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B5D8EA4-9209-4FED-893B-1B8F42B9985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7CC919B-A873-4CE2-8F55-30046CE219E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98F8139-B23A-4A4F-82D9-66ACCD4FFC4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1745708-60E7-471B-BEA6-AE37BF1498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3D2D80E-5500-4341-8DD0-7903A6B5C43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07FED37-A3C1-415A-9FAF-DB99C68F332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83C7936-D3AE-46A6-A898-E7727A92A24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7E288A3-C201-46F4-98CB-9560734CC26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7B5B641-4B66-48E4-ADD8-C6C0A2018FD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F842C46-733B-4FA7-8D39-D0EBDFCFA71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888C59A-865D-4AC0-A170-0E4187BF28AD}"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F458993B-091B-4BE7-A5F4-B734F20B65FF}"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1A066628-BE72-476C-9E42-AA44D47B7B6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62791EE-07E0-4D4B-9BE6-B00DB2CDBFE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7FA6F89D-8BA5-459B-A548-934BE18C4E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0F697BB-CF9D-4F13-BF21-780FADFA6E1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2EBE2AAF-1F05-43C8-AB01-C837659AEF4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84A41B3-F3FF-4C4B-BAE5-05F5232E9DE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F78DF1F-533A-4273-92B9-1DBC5394A19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CE40BBF-D696-4F65-A6DD-EAE8F69FB79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62E4779-40F0-43BA-9880-A9CAA8C1BEF7}"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A1FADAE4-6258-4BB6-BE71-F5DE510EA4E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42610DAF-5646-4478-B210-B4E21FA6E86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A0E9A91A-183B-4BFA-B6E0-C6C79FFDD15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F080A91C-03B6-48BD-ACED-F4ED89DCC94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D877AB37-C342-4179-9BD7-59B62795EF4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38F486D-EB60-47F4-80AD-8E6C289E7D6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9B439FFB-01B5-4C33-99DA-FD4BF5B2059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0DB318C8-17B6-4335-AB3D-D332A5467D46}"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5F947999-1155-4058-B8E0-E915EC8E60D2}"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1A8A4C9C-14FB-4EE7-8B64-8E4CEFED51EB}"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81FB773-39ED-4AD9-9352-F64D383637A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0702C64D-5CE9-4972-ABC9-7C5888D0D2DD}"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060134D6-482E-47E3-B1B0-1618F0F0F415}"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89EDED39-54DB-47D9-90E5-3955666A194D}"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D1EF785B-305B-472A-92F4-6BB0A7BD8BAB}"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1DC032F8-12AF-4F90-A061-6450A59F83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3FED664-5A5A-413C-B393-A7CE98C24DFD}"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9795C1F-9AED-453B-8C5E-190FF81D141E}"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6A13812-C959-4453-961F-B9EB3C3FC84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46F25FEE-F692-4A90-82FB-293E4D6DD53D}"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F23A7B42-9D82-4132-8DFE-ACC1D37B83A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5285FD43-2E29-4F87-AA02-4938AD2EBD8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47AB27A-26F6-49B6-8005-EED1D58914FC}"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B478D7BD-A24F-470A-9021-6CAAEBCB183E}"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93C33EC-901E-4DB4-92B6-92A3B6EA14E6}"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593ED53C-F559-4654-80D2-9A3F68665BA7}"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3D339687-195A-4BE2-B714-67B6ED5677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19C5215C-53A2-4852-B0C1-29D32E60D1E1}"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923EB61C-383B-4A67-9F51-C051B6941B5F}"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75147B3-7DC4-402F-93C0-4485B28F61B9}"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2B5A15E5-7189-4B58-912E-36E01BE9C784}"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F717662-B540-4638-87E1-DF9A1E8433B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713D2AF9-AF97-4EF1-BA8D-756FD52EA52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75FBB92D-2373-4133-862B-A619E88C8C10}"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F1CBBB2C-5E7A-4BA8-9935-78597437040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1DF0D01-BC2E-4D14-9A11-E72555EDA20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A3356B6-8231-4F7E-8FE4-FE5D28703CFA}"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2F94DA76-0194-498C-9AD5-59593BF6C2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FB9BAE-E240-4A25-9C8B-205BE1CC554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06FB37F8-5550-4F9F-A207-5433ACFCF320}"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783A66B5-0410-4380-A038-2FFBAC67BF6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3E1C0886-0FF1-470E-8AAB-EF1CE83FA0E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51558A3-531D-4199-9E0D-21B388C91CA4}"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BF219C8B-C820-4A85-914B-9CBC7E2EC06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44383882-8DC5-474E-A110-511D85C155D0}"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0F4C78F8-715D-40AB-A848-BF43D708D349}"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0383C956-E0A8-4394-AD7C-1E0D27396DE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0DF14812-54C0-4387-A873-ABFBAE52B866}"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B883C9F-19CF-4572-8BC9-90751A4E7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E4F5188-A895-4CAA-B0ED-CF20CF4700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4E0E325-20BA-4CFA-A714-F80D2147DDDF}"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FE566587-E7BE-4FB2-95A1-9D7EDB63720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799281DE-F079-422E-8843-EEB179584C48}"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C7DA0688-BE32-42C4-A9B9-E17B4727A76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E3F8F9A2-2B6A-47C3-B2F9-D15138F03196}"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257524FA-83A3-4EE5-96CD-97080295FF97}"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CD7F1E5D-A1FE-4581-BD9C-912608AC6861}"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2003996-15A1-4F0D-B1B0-18B9646C936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FF8839DA-D23B-4088-8F21-5143429951CF}"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46B4E63-739E-4666-A64F-FF610445C8F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45DA53D-1D2A-4B6A-A816-CE57C4F0292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AD91E9D-4687-482F-9159-903A4953B39F}"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3CD77C96-09BF-4F11-BB78-FB925CED1F3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795E7C8F-ED08-4939-87E1-5BB0EDC01356}"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AAA49A1-5F25-4155-BED3-BFE113E37AC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A4471BB-4E14-46A6-9845-3602D6E8D2E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4B66702-6A80-445A-922E-437F3D20AC8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689BC074-EF91-4BBC-9CB8-C58C432D1F87}"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1C323039-8465-4A06-9018-280C20353D0F}"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0719E933-4C8E-4A05-B8B6-2A4E575F5E3A}"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0900FF65-6C84-46ED-941B-115D651798B7}"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74A3E834-BEFC-4215-94B0-EB2BC4FB36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EA19427-97CA-414C-B8E3-A34347C32AAC}"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7511947-F5B7-471A-A34C-5DD85EA4D147}"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192C6CF0-362C-43E8-8B2A-EA4B69E52248}"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C53C2C16-3247-41F5-816B-5AC4CEC3E01A}"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62855ED-B577-4BAB-AE65-BF77EEB3CC18}"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AD2F169-76F3-4C66-8C28-34540893DBC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263F9E9-A326-41F5-82CE-93D111BB3FF2}"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33B5539F-FE82-47BE-B00D-ED0D64D9E366}"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9FA6629C-A502-416C-AABF-9991CF4783C3}"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FA353AE3-FEDE-431A-A23B-9BD265364997}"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F56A6C02-F6F9-46C8-BA9E-BE82ECA5F6D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6B2E355-80EA-45BB-8D50-E8952EC8223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487E59F-D1E7-452B-BE12-98AAC4FEBEDC}"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655D80E-9B77-4533-9672-FD66043BC0F5}"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58B8747D-F054-423D-A3F5-22213E9FD27C}"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8612C3EE-A31D-43A0-9DD1-5BED7566E7BA}"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2B0461F9-A781-4B9F-AEA9-EFE2F8862801}"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97CD72B-156F-4700-9D4D-E03143AC680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A47E2D5-ECAB-4CD0-A0C5-4D9EF1FD5463}"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342CD2C5-E97A-4B8D-954D-E6E34508796B}"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47BA1228-6EE0-44A1-B8A9-21906C501EB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F015D977-CB97-402B-B52B-296EFA4B8A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87F0D7B-315E-4132-8640-62D7B4082767}"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F64B7117-56AA-4E9F-BE04-89CF2DF8D967}"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A5C148D7-C174-4571-99D5-106F060B8F7F}"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1830E12-D7BE-4FD7-92A0-3F8F2B8BB22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F487B7E-1B56-4820-B820-45827E9A0FDC}"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6210DA95-5679-4FB3-98A9-74A7DAAAB4E7}"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139957F2-5DFD-47FC-BEF1-6A258035A191}"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D521E986-160F-4583-80A4-7B65D643DBF0}"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6958735-BE6E-4B32-810D-1A73BA6402E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1B39950-9026-468A-81DE-82F6D3741F0C}"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145F524C-F744-474B-A573-A04CF7B532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C48AA0A-4E28-4FF9-83D2-023B605CE912}"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B433BB64-904C-47CA-AB7D-A68578B7C07A}"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C4B8335A-FEBA-491A-841E-62CD27FEDEAC}"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95B4523-F8DE-420C-9A1F-725FAA875053}"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3F0ECAA9-A262-4FC0-B77E-46752BAE3DA4}"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0F14F15-BB6E-40BC-B160-784B79CB5FCE}"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106399C-833A-4E47-9191-39A569B3313A}"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8B31E487-D736-427F-9C03-A08EE038FC9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D60FF480-DF35-4663-9EA2-8C49B6C1790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D5D990D0-1E17-464A-8587-96F5F8268E72}"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005163E-897A-43C9-BA2E-CF359948BD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DACA185-74A3-4158-B49F-3753C3AD9C31}"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358D2E87-6092-4866-8152-E6586C95DB6A}"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3B08447-B099-4926-A95C-29A97BA43F29}"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0951F6C-73D0-46D1-95D7-F9FCEA315B3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806749EF-82AD-41D8-B4C9-35BF034E6837}"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950F7322-EFDB-44FA-900F-0B2103A1769F}"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4F484DA-6BBE-47AB-91E4-F750F540E02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FAD0E802-D424-4C68-88C4-62E74F08FB90}"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8F71805F-C2C2-4595-B6DD-899F5C3F7F07}"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3F78395-21FE-402C-AF0D-37218D4C2E96}"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04974E72-35FF-4232-BCCD-0400F9FB1F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D7CC514-2CCE-4016-BB99-5DFC4EC70807}"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EA85DAD3-329C-4108-9419-55736F84E75C}"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7884E257-C51C-48A5-841A-8EF58B47A1F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084AF40-5B29-441A-A44F-92A49EEAA4E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8B3B2C54-F257-443C-BB6E-3DEC859D5E4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6FCDC01C-E45D-4CDD-B4C8-634AC14B416C}"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5A7A833E-065B-460B-96F8-D95C2C582BD3}"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3C1113BF-CBB8-41D1-97F8-01546670F59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97EED3D3-CDDD-4149-87CE-9AE84063B6FC}"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1E53689-404A-4CA9-9362-319BE7CC7DA8}"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9710295F-9AE6-48B4-9C09-0AFF5F8491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B348A3C-536E-4158-A71E-0666084F084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AC07950-B394-4558-BE8B-A4043D696226}"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E97AE11C-96FA-4340-B803-E3D864E9A5F9}"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AF944969-F0D2-4445-973C-0DEF73723104}"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B76C7B6-E5C6-461A-9E74-8D46664F71E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7B3175D-3A12-4232-A7E5-8BB97BA6B8F6}"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6975D0D7-3285-4ACB-A2E1-C23FE62CD578}"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652180B8-1804-460D-8ECA-A5DCC93140D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2CE8E642-D97A-45EE-AD46-B26BA9540AB2}"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1B65F677-3493-4288-9815-EE62DDAB2DE2}"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E7A08605-7452-48EC-B4C0-DDB3A335CE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A4CC8B0-A2A0-40B4-B1A7-AF648C1480F5}"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EDE8B1D1-F863-4B6D-89F5-B10F9A637DBD}"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FCB66EA2-B2C9-496C-A3DD-D391E754457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D06962EF-FF07-492A-99E1-28D3833202A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04FF5871-A871-4C04-B5E4-E733DEABAD7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0492EFA2-B840-44CC-82CE-E57412A8FBBA}"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B55D343-E8C8-4995-99E8-6E77A9D53208}"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66C28490-B04C-4648-B8DE-1D1CD28E1862}"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92DD2F7-49CC-4C92-BABB-A4A45B33CD83}"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A04F4D09-577C-4EBD-A856-CE8CB8D17569}"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A0585350-BB76-4240-940B-9300EAA2F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20E980D-A7B6-497D-8BC3-811BC7F810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2CDD98B-1D1A-4C47-9BDA-E07D825213E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12FC6E2F-F36B-4060-A5FA-6736372A088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C212A0A8-4633-430D-9EB2-CEACA59D17B5}"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B7B0072E-56A5-4E2B-A513-A1967FDAF43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B9083D6E-BCBA-4C16-8A4D-6BA42E0BDBE9}"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CD7BA41A-B5DF-4D43-AE30-727E22C9CFE5}"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2002659D-1852-44EF-8FA9-799ADC138261}"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D42BE445-F3DD-40C0-B967-8F21E0580253}"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A131787-7BAA-4E3B-B0C2-AA636447B1B7}"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8EBF8F5-62E0-4B26-80DD-FC5B3A063628}"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6E24420-2E99-4389-9DF4-A14DF2DD70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E497E0C-9F87-4B47-A97E-B2B0FEE0070B}"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0F0CFAC8-4999-47B9-B823-36D594DF08B7}"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A66613F0-EE25-45CF-AB46-FE114D3D7DF8}"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6E2DCAE0-F58C-4791-B40D-7850AEF84B06}"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E5DBA659-F8D3-4F0A-95EF-C6B72DA22C94}"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C961EA74-3B0C-41B3-9B56-EAA839577D83}"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1223F276-0C51-40A5-ACDE-FA502E9A2074}"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07358F92-5082-4936-B504-DD82962FA0D4}"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E86FADB6-5636-4F24-A29C-8A53481D7B5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3E3664F0-EE38-40DD-951B-27935A1DE78C}"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D4AB2EC7-66BE-44D4-86D3-12861D55DB7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0E25185-BEDD-4D84-890D-85E94E4F8997}"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0493FBB-A7BB-4E83-965C-CB75E9610D0A}"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8A9D57C-312D-4B97-A83C-33BC131D2D0B}"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EAB1AFF0-DF10-430B-825B-14D4C2689697}"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31B44291-03DB-44EF-8343-7500FD16D7CD}"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13DBD818-0AD2-4A87-98AB-63EC0DBC8673}"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DD54D8C1-3C57-4C07-9FF2-E0487B75E781}"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E0432C5-D493-4C78-B0B8-F0F35E35A855}"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8924B3BA-20B9-438E-9933-A88719B67A7B}"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B3D5029-1B5E-468B-9D42-A3E3FC7ED631}"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E93E0415-61AD-4FBA-9119-DBA553094AD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33A67E1-BC71-4C01-A9BA-CD6E7E6FB1C4}"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9F40F303-0EBB-4F9C-AD5C-1A133A986D83}"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75099D2E-906A-4ED4-A75A-6D2A42EDB14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41D769A-F885-4311-BBBC-75F0F2CA98B3}"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96E3320F-D720-4CE6-BCE7-2A16C0C69142}"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ECAB7A01-B2E2-4827-B4BA-0C7083C992BB}"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98162F32-5A0E-447F-8201-0A6C076F28A1}"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835F265A-71D5-469A-A728-22099DB1B0EA}"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407D0618-5E95-4D4B-81E0-6D1F3AE16890}"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4F4D997A-B3AE-4251-B65B-CE141A4279AC}"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F915893-634D-485E-8A96-EDB19A07B5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6DD9B45-50D1-4F4C-B442-21143870F5C9}"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91D8B509-83BD-4A2B-83B0-8429F6A5989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5D690224-B24F-40CE-9CDA-38128EE8E4C8}"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04A6C7A6-F174-4E27-AC79-E1E7B16C12BF}"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A0FF3763-B563-406F-BC97-3B6FE046CBCF}"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7C57E56E-1FF2-45F6-BB92-E1D985215FA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70A011D-D4EB-406D-9BF3-7220BDDBAF54}"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1422E8B0-04A2-43DE-BE85-804E02BE570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97D9A397-1814-494F-9D7E-C983039BA0F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90CC970E-96FA-4B3B-BD16-D9CB5EF6165B}"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4789ED52-D8FA-4F4F-B45F-10E2E02172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17C16B7-EF9D-413E-B9AF-16084609DBCD}"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53937D2-1FC6-4F49-93B5-0ADE29B859ED}"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9CC93D1-FD4F-4D61-930A-46C0AA736607}"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E2D98D2D-5B40-4420-8992-3BD53751AC40}"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3855C15B-056D-4913-84BE-944D245832D3}"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6D8E91E8-2BB4-4C94-8C35-DD4A7EB8CD52}"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C37FBEF-BA2A-44A7-9F63-0E08401EDCCB}"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028773E-BF68-4E21-BD1F-D705749C8FE5}"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E594D8B-2B44-4E6D-9CBB-5203C207A2ED}"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495586A-4214-4A68-8289-9102F264A5E3}"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2BA8CBBC-377B-430C-ADE5-6874725A674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5B3A41E-83D2-4217-A835-7C2B04D21FC5}"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AFB53023-AA5A-418B-8318-347E3F3B158C}"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C1F9278A-030D-4D98-9F45-445F4087821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406ACD64-A6FE-46D8-A8EF-C7CACCBA9A85}"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09CBBBB6-B2F8-4689-AE00-9BB1FA91B3BD}"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E8758E96-BB2A-4C7E-A4B5-AA382F8194E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B1F357DA-F2C3-44C5-A278-E680DE395BBD}"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9832CC1E-AFD8-4B3F-AA79-FB52A4A84683}"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54E02DC6-413A-4C0D-A466-946A04DDCAD0}"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2CC8EBD0-80C9-44B4-8E1F-C66E8CBBE3B6}"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985BF76-B5F0-4A17-97F9-8AD9A7C37B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0126793-699A-404E-9229-D04D8E852B16}"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9104FD40-CC81-46E4-8045-1DCB89BAB8DF}"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5779D414-5476-43DB-81F1-51370A4D8B5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EE13AD03-E4E6-4C41-ABF0-CE641E30E51F}"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565CA37F-BA57-41E3-B5E8-1FA1180B9D70}"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5558640-7068-436D-B0AA-2883A7DB5B61}"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5D2D125D-D154-49DE-AC15-3355B77919BC}"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6B27C0A2-F5F3-404E-BC04-CB0D14141B2F}"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8454A69E-BC79-48DB-B4F2-DC37E2A9BCED}"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0BA948FB-A2B9-49BF-B644-F437AE2BDC10}"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5E1E69B-B5C2-4B92-8771-2CE7ABE958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3881387-93E9-4234-92C1-03D7C91B368B}"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0CAD875A-F90F-4D14-AD0A-E46FA1CEA2D5}"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072F79E-82B7-4DB1-ABEE-82B8FD35D058}"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3A206D1-1F91-43B1-AB53-FD996DEAAB00}"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13BC1393-9C4B-454A-9A28-0ED034FC85FC}"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015F964C-6892-4461-B09F-0C478BD3B06F}"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4E650DDB-9C93-4D84-BC89-4CCB93410AFB}"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161BC851-F195-4A32-9B78-E78D118A0E0B}"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C5F07BEB-70D7-429D-B014-28F2B0569B0F}"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3F106FEE-C5BD-474B-806C-DFE538CE287F}"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7DE2407D-7283-4E4F-81CF-8F48676DA4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613BEB4-BE87-429A-8CD9-A2530F922B96}"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532ACF05-416E-4C61-BAAA-633ECB57EBD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847E3A81-9CA0-449E-9C4C-1375F4C4AED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31C4F5E-7398-4EC4-9D0F-CBE79AAD7B1A}"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E6ABA4F-0024-460E-A7DA-586B4535CDEF}"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1448F8F0-13EA-404B-B54D-24E46FB61C4B}"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74D58DB7-9456-45B0-8676-00DACCB60B7B}"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590B9607-C381-497B-BC8E-4FD399204513}"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DF29EFD-670A-4F97-BF89-33A124761984}"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26EF31FC-7CF3-4837-870D-521457E035AA}"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94D474ED-3813-4E6A-872A-5836CCF3AF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482D08A-1DC1-4EDE-8742-5B7E0ECCEA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671E2DB-BE36-4463-9A01-8A03FDAC500D}"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5D391B15-F1E7-455E-B619-1EB9E1DECB0E}"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AF0AC649-D7A3-44C7-97A5-B57AEB310BC6}"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D16D42CE-C5EE-4213-AD84-18200814D994}"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4E9EBA0-FCD6-4286-834C-984767291C6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24F18ACE-5644-4864-9D3E-CDF8B086CF09}"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7314FDF2-C0D5-46FC-A8D7-82320AB838D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DAA1EF8E-9930-468D-AC76-FD316E9E1F33}"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1CC1B340-83E3-4841-8BC7-371E08CE308B}"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DE72D481-30B1-4458-93C1-9B02F46F9114}"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3A52325F-BA10-4F60-B8E7-E8BB5E1133E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18098EBB-B750-4D4D-8FBF-015D0DDA3D19}"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33F7260C-BF6B-43D6-9ED6-0FC4A2A95BE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7F646FB0-99F9-4032-AF50-77BD0FFCF659}"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F29818B-5BB9-401D-AFA5-7B5FE4F77847}"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14A859C6-D792-4439-8140-55D4EFC6607E}"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803E35EB-2037-4C85-B2C0-2AD113B6C3EB}"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7CEF03F-EA47-49DA-A6EE-3E585E198DA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F2B444FB-E202-4B94-ADE8-155D6A172FB3}"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7E7CCF9-F9A4-482B-9CC8-9FB07CF403C1}"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C7D58C1-911B-42C3-B500-A78C9B161631}"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C1F44D16-CE84-4664-AFB5-87C04FF28A0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5812DD0-1E63-4759-8C97-87DB8B8A0FEE}"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B1EFA448-0888-4F69-B0FB-45162A23FA4C}"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8CAAD1FF-7515-4DC7-B5CE-48DEEE3FA6E0}"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0FF861E-EC4B-4438-AB23-DAD6351CE2D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C6ED22B2-8B2E-4822-8F33-D7986FED874B}"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81750F79-2EDC-4209-B6E8-437B423A3E7C}"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F2F4528F-8A42-41A3-BD3E-E754E0B47AB2}"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52BB39EB-0C06-4266-B3B7-6A2FCBEC5566}"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110181B9-DD68-4F3F-882C-22422594914A}"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1ABFFB5E-F0CD-40DD-9CC2-F6194F412BE9}"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B522088-D0F2-43B9-BEFE-29B5420B9C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A09847-84C0-4592-87B7-44289DFCE9AD}"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E4EECD15-DB0E-48A2-8605-D868175B3CB5}"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D362C172-F35B-4AB3-A8B9-EABA18B6E4A6}"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2C1B4014-BC16-47F5-8B02-35FE9E97D856}"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FFD3F12A-330A-467B-92D9-5FA8A5E3011F}"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EFEE7FD-C2E0-48BC-A362-A7376589F1E8}"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ACAAB8CD-0B1E-4776-AC62-C31123D6BC11}"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8EBE37F-C98D-4EB9-B02D-DCAB9332815E}"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75E898D0-F835-4016-9547-67FA4E8A398C}"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B6FCB144-C2E9-44FE-BC16-6F02F326DB7C}"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4DF8961-F4E8-47B6-BC7B-FE4EA932EB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3D9C131-15DA-484C-9C7E-BED2846CE33D}"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17C1A2B-D301-479A-80B5-417F673070A6}"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2DC01937-74FE-4A1B-86F9-E362C03A8DE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D390319B-B4DF-4230-9D3F-CF730E7CD89D}"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0138AEC9-52CC-4591-BEDE-A1B5E958ED32}"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B5DD9686-BE89-48DB-9ED6-2F0783D0B50C}"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9A04D54-A9E0-4777-961F-C3396F716362}"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6AD22607-F1C0-4D7D-A02A-D6C7EBAFF77E}"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F9953882-2C3B-405C-8BA9-A1347930734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74A9670E-D2DD-4244-A736-E98765E654A2}"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6833608C-B10C-44F1-B8D9-118AA585139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B088B00-B097-4C25-BBC6-6B8B4CF880EB}"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03A7C269-40A6-487E-93BF-61B91A1A3E7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7C54DF30-1189-40D2-8CCA-18E3772C79B3}"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01B206B-A62A-42AA-8D50-6E13E9AF5271}"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9D969224-3B13-43E6-87CE-00C2522BEC59}"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014E3001-1775-4AF6-93E1-5FF8C5EC079C}"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C4695583-D436-42BC-B7D9-35EBA038D434}"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EF0C6E23-B7F9-4BEA-8BB5-A90DFA51547F}"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B49C391A-27A9-4312-A653-C4A553E9093F}"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6A96FFD6-E134-4BFE-8F2A-DE45B6665A13}"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C7FEBC6A-12F2-4A6C-AD4C-BE383FFBC28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43D4236-B376-4A9E-8580-C196968E0DB3}"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75BE28CF-118E-41AF-B468-2C930143B6BA}"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08C19F73-9710-4912-890B-215E5344E07E}"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089BD955-0981-4146-8CF0-26C4E679FFBE}"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7D05317-0616-4DBC-80D4-EADF145AD0E7}"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C4DC7B8-CFA1-44B5-9FD6-3B8ED4E55F3C}"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C68865F-8A44-4AE6-8C05-4FA1D2F156E9}"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4580984-6C3B-44A7-9CC9-65B741B8E3DA}"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A128BB99-96E0-41C6-8A18-8212204BE33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3039C834-0EAA-481C-B97B-D736364FA730}"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7CADEDBE-48D1-48E2-87D1-A1250CD2BFE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257A0B4-CD9E-4DEB-BCA1-B8213C5C278A}"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7A86265B-E0C6-4781-B68A-C7FC4ACC0786}"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318ADC9F-4017-4A42-87CD-5E2185B2183F}"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A7D8BAB9-BCF1-4ACA-BC81-A755EC3F576C}"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C88A3DBC-A30F-4544-9111-2D34782C7AE6}"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BB754967-996F-41D8-AD1F-2158A6DE0516}"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7D9D2E8-2EF9-47F3-A54A-E243955602B9}"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FDCA2EC-28F3-4225-BF2E-B768CE1E423F}"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7878D888-38B3-4F16-BECE-6D2B675A126D}"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E1555FB5-D1B6-46AE-8FE3-86F278E402E5}"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C0DF1460-D799-414E-8720-0C5E49A0D31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3C6A463-615F-4EB7-855D-20045F169AE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3F58A3CE-DC46-4E02-92C8-CECDDFAFB7B0}"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6DFC7DC-CBB5-400C-B634-D5975A8F228E}"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A6788A3A-8298-4773-81F2-BB01847FC8FD}"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ED51B4C8-F94F-4C21-97B1-4BC0072C075D}"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DCA2AEF-9C48-4388-99A9-792E823A396B}"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7B838F73-05DA-499C-A758-25BB76824FD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0D5EFAC4-E9C3-4BB6-8303-A43577E0860A}"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0F843F6-82F0-436E-BF9A-B5A1E870DF73}"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1FFC70B-0506-41AA-B22B-BBB0D2367DE6}"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5609FE0-8440-4F47-8839-9E3030EEAAC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613B739-9FD6-49DB-BD23-AA6C79E0C866}"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04C854D-FB1E-4188-925E-631365A67C17}"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C4BBD94D-A14E-4F84-84FE-C5D03DA98E94}"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5396B719-244A-42DB-BABD-313D4589F043}"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FCBB2494-42EC-4EFD-8B3E-4053EE186C7D}"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9CF2376A-3142-443C-9B53-24156C0147E3}"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665246CD-2311-4DE1-8D02-FF830F1209C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2A69CE1E-6D9C-49FE-B4DE-478878235E02}"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441FFE69-929F-4D3D-B39E-97694D5C3EFB}"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9840C49C-55C5-43E9-874F-CDEA6AF51253}"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28555870-D525-4182-A926-8B595B45F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EA6A854-C0AE-4094-B605-19595569DA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43B9256-54E0-4355-BF70-AAEE013776A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A61E5F3-5356-465E-B5D1-3455C05681A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7BC2055C-CF69-4ACA-BFDE-93EC0EEC5ACB}"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AD931079-7C71-4C46-A334-BF8AACA8348D}"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6F0B0374-2563-4254-AEA7-E94112AB17F9}"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570273A1-F633-42F6-B90E-0D7AF3BC1588}"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9272DE76-F53F-412F-A614-66191EA71920}"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A4602F6A-A597-43EC-B2FF-AF10EF62AF7F}"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D26651B1-4453-496A-B65D-681E3D0DB4EB}"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DBE033D-F72B-43EA-8CA3-BF23FE35F6D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60190597-D033-42F3-ACD6-08843CB9F14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10DF29A-9138-4C71-AFE2-7F068D281E8A}"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91A0BA11-8254-48D0-BB5E-8D3FB443E599}"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0A1845B9-95AC-49AD-873A-99952814ABC9}"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CAE8670-B4FC-4FEF-809E-E88B4C005DDF}"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AE9A8EFE-28E8-4041-9660-7AFB3746D326}"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F7753397-1F7E-46B4-981F-F4803687D14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BEA69B09-7253-4CD9-B1DB-2DEE48A9BE8B}"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B0B5743C-65C5-484D-89BB-536C6C8B8990}"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B944D803-685F-4E77-969D-278655A5BE0C}"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79619491-2A55-489B-8AF8-55939BE81943}"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D74B9A7B-1125-4ED0-BEC1-BCAA7F62B7B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2B4EC0C-2F40-4D54-9F84-4A041CE5A685}"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861E5D71-C70E-47C7-9996-8AAF54526237}"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3FD32A65-4342-4729-B62F-68C00B597038}"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928B1195-A97B-46F5-A544-27A6043C4CF9}"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FF8EEB8-55DD-46C6-A9B6-9AD4B5B884B9}"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DA26A67F-0755-41BA-B871-38A5AA0E6C2C}"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D302A4F0-7857-416B-A79A-1A29E036DB66}"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D14F82D-32D6-4844-A03F-B98D90AB6372}"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F77F146E-5832-4D72-82A6-048F47F081BF}"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5C5768D7-AE1F-4DC1-A3CC-DDD84871B5D2}"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5B59FDC1-CC01-4A3C-BC16-A2078A90F1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FCCE65F-ECFE-4D37-81F4-6BA8241C1D15}"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3DB3B55C-49BB-4A4B-ABB8-BFDD1579C43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C90066A3-2022-4E7E-94B7-E03C7B2C2364}"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C9E09324-69DF-4249-8090-23B4B10FCDC3}"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13505AD8-150B-427E-9CE6-03B8A6A3DBA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73C68F28-9652-4A29-866D-294FA1C37182}"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219D8246-C0A8-4B1E-B18C-FAC516C3CA2C}"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3E68352-F3D7-4621-A5A4-EF57B95B87A5}"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B8AAE0E-AB95-4DB1-B6BF-9CAD8EB25225}"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C3794A07-BF6E-437F-8159-0031170FFFF1}"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0DDF30EB-DE20-49A1-88E8-6C46BA8526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D3E216C-D8D1-4888-BC7D-A1B8B464672C}"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286EE62B-1C01-44ED-8DCC-456D5FECF0DA}"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8E8009AF-DC56-493E-AEA6-D6EF39866D25}"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FE44FEA-2737-483B-8C10-4F8EB051945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EAA19645-341B-40F5-AB63-57E8AE4DB715}"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9D769899-144E-43BC-846E-6FEB39A70955}"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03F80D0B-120B-4EC3-8DD0-FF605AEDE3A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2A6DAE15-BB78-47F6-8789-36179B5402C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9611AF8D-5B46-4156-A278-B85971B978D8}"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214900AC-BE64-4095-8116-276391482A7F}"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76FC8B1-188D-428D-8B54-B609B2F39B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7D010B-89F2-4981-8CF0-36862500C8B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E9710D58-F912-4A87-899D-5E5198B6F113}"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673B5186-7565-4BFF-B1D5-69F7AE7C4EBC}"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F37BAF38-2EF2-4CD8-9AE4-EEEA36FC321C}"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D6FA1103-0A7C-4626-99A2-6B3624B214A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AFDEFAA4-AA33-4DDB-9A12-9D8A9C019CE9}"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9B0032FC-9B5D-4D64-9135-B24108C1F6D2}"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8E0E1728-E00C-4BD6-929F-B679D15F133E}"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54B95975-531B-4F77-B86C-7B327E13B4E2}"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D5F817E0-D58D-4B18-B0A3-C0B616484999}"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7E2C6CA3-A642-4288-B3FE-60CEB0B1F09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7234548-5A99-4956-9219-E7B38A2CC4BF}"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6A8A59C9-DE98-4194-B3AF-23D888D1332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5AAFFEE6-F8A6-490F-8BCE-8B51B1576D9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194DC171-F832-462A-8A5A-7A87E17A234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5B2346BE-FDFB-4B9A-B796-9BB24E51A505}"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6F25F2DB-BC50-41B8-82F8-2F85613A5986}"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D0B31AB9-269F-4B63-B8E3-2D9879F0CB0B}"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C90DAA44-735D-452B-AA2C-9373619A12B6}"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3547BE2C-BB72-4180-BC6D-A5F5AC651366}"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CE45E41D-33D4-4764-A7B2-A3C32FB8A2A9}"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51F2B278-D6A4-4E7C-9FC8-070DD257FE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CFC26E4-0EB9-4D77-8E2A-DE019E589C5B}"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C7319188-13E2-4710-AC8F-43CB884B994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16AA509F-E7BB-47F8-A90A-A4C5F015DA80}"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614A753-A05A-40D8-8EF9-08DF1AA33F7C}"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3BC3B72-C4D8-40A3-BB19-6B01829636D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37B5A119-E27B-4ED6-B237-22005FDB2868}"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CDAE261B-AA29-40BF-AB03-BD58F3F0A64C}"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55BD29F0-9241-41E2-A345-9E81E9F3E4B4}"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675A16D6-B89F-4CD5-93CF-0B96EC0D4471}"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4083BD19-2F59-475B-B382-A174154AC10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B5A33F5-EC6E-4EA0-A870-AA1C48E31B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4D30505-1A99-4291-B110-A1397A1AA2EB}"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0D8FA5A6-22FE-4927-8906-1FAA8B7A9884}"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01B8CD63-0A89-4CE4-A867-362C73CC5270}"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7FC7944D-02F6-4F28-A2D9-A3AB0EEA724E}"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2E6A5AB9-9CC9-4766-8AEC-19911364D117}"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485652A-797E-492F-89DF-335E50DD553E}"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F55B483-B1ED-436A-83AD-A6EB1D0FB523}"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10E57FF-D162-4FE8-A1C9-7147938B66E6}"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A5E1B5A7-39C7-49B3-930A-735ED8F9FCD1}"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79CFDF87-38C9-437B-AFFC-393115EF9172}"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B27741A5-DDE0-4310-95A8-48306C2F7E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5506376-E7EC-4CDA-95C6-8F666D89CA58}"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EB67EC9C-A4CD-4BC9-A67B-E2CE3AB4B7D7}"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0DC07014-0FC4-42E8-9814-0459E70A259C}"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A5D66C6-DB9C-4337-8A03-95EBB0BD61FA}"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363067D5-6317-44EF-A95E-582402BDB4B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5DA5D45A-5FB5-48D0-82F9-D01DA7209341}"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B8CD5BA3-8C06-426B-B6A5-009D16D900F9}"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545EA3A-4FA0-45FC-8B07-F6A53F41F26C}"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1D15D21-3158-4E8C-B044-779C97EF601A}"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CD440BB7-C514-434F-A336-EFD7B61FC841}"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BAE5B2E1-543B-4868-8D96-9F982C24E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46FF17C-CFCC-41FD-B9C7-F9781858F6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E14FF93-816B-48D9-BD78-B3ABBB1CDFD4}"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04C7F295-6415-4F37-801F-42D3D9FC1E14}"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E9F9B8DE-3AC9-4DB4-B9E5-976418D5C50D}"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A5094DDD-0556-4320-9726-95B02D2BDFC0}"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5EC988E-0499-4E10-A038-450571A798A8}"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741FF83C-0061-4E9E-AD32-7A9E0A6D600C}"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8524ACE3-E0D7-4793-88A9-4E020BFAA0AA}"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21BA5EE1-9C00-4C05-BB66-3526073126F3}"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87ED1E84-A7EA-4D7A-B09E-6EECD4B2943B}"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772E4DC2-3345-4714-ACDE-4312D5BBABD3}"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6F087540-02A0-4CBB-8704-3AEA3F3327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82CF2AB-9364-4AAA-9733-8B27DF327863}"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844DD6A4-5D62-430D-A881-BE968146EE0E}"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AAF5B08A-6723-47F8-8B68-A8F6219DB044}"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2E1E3487-3B11-49A2-BD1E-9373E85E0201}"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4B654993-A7E1-455D-8932-C9BF449BC6E7}"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7FF7FE2E-7D60-4541-994D-19E480522417}"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E83FC497-9B22-4A68-BF51-A6A9DD395AF0}"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C33A10B8-38AB-46ED-B4EA-D0A75B674C12}"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21B56635-9CF9-4DB1-B887-110B7B30056D}"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C9C2B888-AA1C-4089-96F9-D5546B32615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D1F0A81-207F-4BA3-AD76-C95F2C26BF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CDBBF83-D16B-4741-8D0E-5E47571508F1}"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6B7DCD2-C602-4DA4-A0E1-4756BFEE47CD}"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41774B0-B745-4901-A8A3-2DF8A81C5FF2}"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EE190C1F-9B8E-48A9-A43F-83F953CA71CC}"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EB52B45E-D503-4BD2-9DD9-4AB52FCFC3FD}"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336CE444-3FF4-4A58-9CE1-0FD992BD81AE}"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DA806597-C603-46EC-A234-9200135A276F}"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D19BBD1F-EAC0-40E3-B442-0341FC4BDC8C}"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49959BC7-00EC-46B8-9795-4D8A04ACA694}"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D9FAFEAA-D74C-44F4-B821-9D6E2B3EA960}"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980511CC-A733-45EA-9EE4-5B34881C15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B0EB759-A203-458D-9187-786117A672A6}"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50D425AF-677F-4F18-A24D-18E2E78AF589}"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29CD658-2A25-4885-A76B-7AE7D5CEA6E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34486B76-04B6-4797-98F8-BA8D2459EFFF}"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AF382F48-EC2A-4629-81A5-0F205469B529}"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F0896A6E-F346-4603-8CA0-DF057C42C5F8}"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5D65632B-5A51-43AB-87C1-B6E2CECBF807}"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ED700BC3-EEE9-4B38-8A22-9A0A3B03019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70E7BB66-ECB9-458F-B4EC-7E8BD9C64674}"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FFA6072-E12A-4E37-9FE7-7F70C6532D21}"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84A1DB78-C20F-407E-BA3E-4276A28C20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A7D70E7-BD54-40A8-870D-D9AD422382E2}"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D20A1671-A223-4EF9-84BE-3DC68DAB3FC8}"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D62F9DFB-DCF3-4A3C-AD0D-D56D01FD2227}"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85A45111-31B1-45AF-803A-16A7AB234442}"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BB78AEED-00EE-4195-B61D-B6A91D0BE1F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76C6F84C-6C3E-4E45-A56A-AA98A68D9600}"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38796C76-0342-480E-A96F-4F92037DF759}"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E53C24A-39C9-4556-A002-E8E848D7EAD1}"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A1EA4F8A-6D89-4488-90F8-C9B0EA8634EE}"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D8F71336-AEAB-46AD-90F4-C18C921DD952}"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E77B208F-9715-42D4-867B-57719C85C85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6590C69-287C-4DCF-8AE3-C41F72CF0D8C}"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7FAC6861-789C-4697-8445-EC2BFA90597F}"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146DFB1A-6D7B-4E70-915E-21C9323D8421}"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06B601F-BDAA-477F-82D7-73D0388E1ED1}"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89C47645-DAE6-403B-A0D7-DA31FDC739DA}"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18AA5BFE-020A-4D15-BB04-3A728E6F6D1E}"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F45FA85B-912D-4688-94A0-1186B88B2B7E}"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3751F7AF-2398-4371-A9A3-60BA228ED73B}"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21BDFFD9-850B-4B71-92E6-3FF1279AA49A}"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A79BD479-9626-4377-BBF2-BB296E2D9512}"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C1EEE585-10C3-46B4-9A1B-10805FE192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3226201-CBC9-4771-B4EA-09DA602B29A9}"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023B7356-89E3-435C-9B08-C28BE7C7EF4E}"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F1AD402-0926-483F-84B3-7609EEA00CE1}"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1C42B464-D952-4FBB-AAEE-90C10D807E04}"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F6DBCDA-4E1B-47FC-AD17-DE52AD05D62B}"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DA858167-C0B4-4BB1-B53F-8B39E57B29C7}"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A4D6B50F-F0F2-4088-9781-2A43E8457F8D}"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5CCA00F9-252C-447D-A848-1D4BFC10E22A}"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FD91928-6A78-4850-B797-88AA2B64052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035AC40-CE42-4E08-AA1E-884291C7531E}"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607BAC7-99D6-4591-BFCB-6A2BE3F2E4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9E7749E-1D20-43B0-8626-FE2505585806}"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D0CC38D-7F6D-47BA-B0E5-81D2B7ED9305}"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EBA2F769-B8FE-427A-BA1D-C0F9591E41EE}"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ADA0F3B3-4653-4F7B-8D30-EEAA20D100E8}"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981C60D9-0A69-47D8-A043-AA0F3E9C654F}"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A10CDFC3-202A-4279-9344-4364BEB5F0C7}"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86D8112C-DFC2-419F-9F6D-FC4011D062D6}"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FC443E3D-6F0B-4B3A-B35B-FAB8CC44A66F}"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EEE310BE-064B-4807-A9D7-FD20BFE3A8F7}"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AF6F685B-DDA4-48BD-A4FC-D90AC0C5CE19}"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5B2C2B7-BF05-4924-B4EA-CCBD0B1E29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111E557-50AC-4AD6-BCA2-1E9AE7F991B2}"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3C88023-36B8-40B4-8AB4-8B5F06A94D16}"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EF0AF08-34EC-4D32-8858-CBD1906554F4}"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C7BAE3E5-53C9-45E4-B87D-17B7E1ED6103}"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32A5DC81-F974-45EA-B13F-E9BF9C539B49}"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0318F74F-1F60-4B12-87AF-9BDCAEBDE2C0}"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0132776B-BAFE-4BC7-B269-4FEC3A1FF595}"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25E21203-56D0-4F74-A159-969927010E89}"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F8BE3AF8-A416-447A-80A0-A2EEB0EBCC7B}"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879A1A71-AFD1-4CF3-BEC0-076ED1AE16E1}"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F5C80778-449D-4133-A97A-4FAF50969F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80B7F66-2BAF-4AAD-86B5-29AA21C08793}"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7C1B8495-4224-4ED8-BC33-A938EB3264F7}"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F1A2ECA-0B21-49CD-BBBD-0D24539F1F6B}"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9124FF91-8824-4C53-9459-9B9DDAFD429E}"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DA337283-C64D-4773-85AD-A103845E949E}"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5067023E-4B0C-4E22-8670-D4DC8DFF9492}"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56A5AD6A-B2EB-41EC-B6B1-E6FF025B2798}"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F1515A7C-80B4-4B59-A6EC-FB527D6EAAE3}"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FE2CDD98-B5DE-4BF6-AC24-0CC81862AD55}"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B3FACC3E-99A8-4002-840B-B8D765BA5490}"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62D401BB-3BF5-44A2-AF90-AA2774C85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4653D-9114-4AA0-A2C4-2F7C2EB115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19C7B-0A0B-4E98-B595-B9E75942B6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3832B-1BB8-4AF0-96D3-E9702A6D0E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66D05-64C1-4E9C-B42B-535D104DA7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542BF-8F45-4987-A6D5-755CCA70E4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430B2-2D61-47FA-9F24-6A902270F7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C9C41-B7C6-4D82-B7F8-BF9145C9E6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5D04E-F5C3-4276-B340-F646E3667B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8AEA0-A590-46E9-8C16-92DFF3ABE3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B09CF-4152-4A51-AECA-EA968B07FA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E4905-460A-4908-9993-6365B68D5B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17C76-F596-45BA-A868-7F7A45D124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8C5ED-3B82-42CC-923A-E41E0AA94E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9831D-DA50-4370-B69A-4BF947D81F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48C08-D576-43E1-A875-34778D00C8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99C53-24BD-4B09-B8DF-84A67B0FE1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30A8A-ADBF-48CD-A61D-FDBD5A820F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0CB5E-EE4B-4C06-A0F1-E6B9C9F976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01B59-2554-4A61-9DE7-66548968A3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F5813-5BCA-442C-83DA-2BECD992B4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EBB30-6A25-482B-AD68-E82D1CB5AC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9BBFF-22A5-49BC-815C-1809FEA294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49770-3974-4795-8CCE-52B8F25E7C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0F6AB-2C2C-4A47-960A-39A67651F0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FFC57-4BFA-418C-831C-414F1F1312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2CC68-1A61-4361-8A7C-A5E0977C70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62EB4-FC83-47CA-BBC9-690E01454C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44984-C7DE-4592-BE94-35B429A3BB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5BCD6-793A-4988-B601-DE50B6BFAF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8AD33-6896-4E92-A2A4-64EDF78BC9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70AAF-82DC-48A3-A16F-9F38245E27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A4214-9DAB-422F-91F8-DACF4E8348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8424F-D836-4527-BF2A-0500BBA7B7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E633A-FB44-4378-A5EB-DA553E22A1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32DAB-67F4-4EDF-98F0-D80DF55D3C6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2E43E-AD7C-4A0B-985A-B28F1655B0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76552-3701-4BF6-B8AE-793DDD76BE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9C1A2-12FB-494D-B4BD-D11BE6E4CD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E300C-0181-4F79-9327-2EF971E184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97FD9-F468-4A84-9E2B-61CF5B8E69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3B6CB-7F1E-4057-8C63-196C516C7D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45605-C963-448E-9727-CDF51D5D6F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DCBEB-01A2-4B7A-B40D-9E80CB871D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6C490-E00C-4AD3-850B-0EC0E5EFD7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6EB51-F9D6-47CF-9E9A-1199FB5E71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6AE11-8F2F-4368-8391-7918D0F0D6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734C1-9B79-4E86-AB4E-B72B99D438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E4C59-CB54-4CB7-9A13-DB7E1888B9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2FB0D-1142-4FF9-896A-78E93B09BA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66C27-266F-4902-A41D-31003CE7C8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448C4-7D23-4E3D-A4BF-119B4B939C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6C35A-CF79-4E3A-BE1E-B7945B9666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34659-495E-4EDD-820E-A85569C5CF7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AD516-3B4D-443D-AC62-734D41FA60D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B7FDB-134B-4E81-8A40-F0D77B34E28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A7CA5-0354-4F77-8DE5-69CD9888660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FD1D3-DAF6-41E9-9205-38DB420E0C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05047-7A8C-4377-8E83-218B830B24B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29F04-51FD-4F9A-AA3F-23EC5082A2B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8605C-AA19-43A8-9A1C-DFC94BD35D8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30894-6AFE-4C5E-B3B3-70A0F1C7759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906F1-EE80-428F-AC21-772513A6CDA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62180-DC59-4ED9-B36B-7E60CFEF41F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E4BF6-7385-43D2-8681-781258196CF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CAB3E-FC47-4AEE-BFE9-9CE356D695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2B1CF-B001-4AA0-B5E5-AB9286EDB7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0FE11-AA84-491A-952C-DF4B980CDD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5BDAD-368E-4416-B9A6-B8629FF037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1FB3D-C59E-4F87-AD5F-C3CD5C2FB8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54EC2-90BC-4A25-B20C-AF13BE57D7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CBF16-A702-4C77-9AB4-FFF021DADF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8677F-FC0E-4067-B00A-48D29D909F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BF2A9-C291-4603-9B96-F2AD9674DE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E7536-7FE5-4199-964C-278680033A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23DFC-D5EE-42DF-A476-59D63458A2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23CE4-956F-477B-9F77-5FF90CD719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6BFA8-9841-4F52-B593-CE413FDE2F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0C092-C487-4806-868D-9140991A3D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6218E-DF52-4A92-84A3-F9F4F3B256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A46DF-AD7D-4307-A9BC-50EE41E7E8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AA13C-0232-4F94-A067-3CF4B985DC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96957-5C6B-4EF6-9C49-3D7797B0E3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72B40-5C54-475E-A01E-B2B2FA74E9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66FAC-34DE-4A63-8256-9A0CFC5224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C4263-4BD3-4F29-8832-1EEED93B15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C21E5-C4BB-4CC6-9268-5627C12295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84947-0191-409C-814E-8614E8AF48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FEF50-63BA-4B2D-A6EB-6286258BBB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A4966-71BF-4469-BD61-184A3B98B2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28D6D-83DC-4230-81FD-D364F34AD3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34F7B-9FD1-4026-882E-7FFE92F83D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D3EAB-48FE-426C-9896-F03A67B475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08061-FBC5-4C06-9BD4-D866C58C6E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3418A-0014-40F2-AC36-BEC356041C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B0FE1-0F05-4688-9CFF-27F852C7F6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BAD54-0393-4320-BBAD-1607C57CEF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D8F9D-DB01-4461-9AF4-96CEF65270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F2660-F624-4BCE-8C6C-BBB65CB614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5D61C-F90F-43FB-93AC-25D9A117F3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57596-464A-437D-B990-69422D1284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C5AF6-B3B6-4FE2-B3BB-15B8B24EFD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5CE79-2B39-4C7F-BEF2-3D130C7263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46A71-986C-46D6-862E-8C68EB2DA4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0617E-2BAC-4869-8224-37266AC1F6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D8579-28CE-4F6D-A29E-8959DF4827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167B5-D36C-4EE0-B6EA-763BAECE79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9DDD8-A837-4497-97C4-CE4DE87140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4B49E-B99B-4515-8E15-E1EE121634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10741-F7EA-45BE-899C-2C226A741F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C331F-6BB1-40BE-80CD-94345213F0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BDCEB-6DBB-41F5-BC67-C1942A5F88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74EBC-71BC-4D2F-9FBF-C8A381FC47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A6D8F-27E3-471B-BA83-AD2C270EB4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34E60-ACC5-4D4E-8C44-8BFE3DFA8C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632F6-0A13-44BB-A100-1BA2FA35D4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97440-3620-47C2-8A7A-8D382B87FB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45B06-BA35-48DC-A125-4139437F89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73519-91C5-4669-B01A-992C53365B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06357-FE3F-4D09-9E99-C2C21A3A5F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94A0A-AE6A-41B0-A3C5-AEE91FA2A9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DC590-899D-4EAC-A2B4-E6E2C81836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06270-5574-4F1B-BBC1-401343CF56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68EF7-090A-4E7E-B90F-42C2C62403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ECA47-5838-4A40-99D7-27D5849EBB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3CFEC-3ECF-4E57-BD53-E3C596876B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2F6BA6-6941-4C99-B232-BF5D57CDBB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2B613-6E51-4A64-A8B5-F4D7FFD28C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D7E5F-7BB5-4587-A485-81F25A36B7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F3B41-7E8D-45C8-B3A9-17A62E9EE0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14E80-BF79-4B66-936E-73E120AEAA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B1B62-3F1C-4974-A834-7B2D01F7E5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F80B7-4917-4769-BA46-649BAF56C7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2B61B-B21B-40B9-A646-378BE85341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8DFE4-521C-452E-A538-FEF594D77F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F8CD2-C1F3-45B0-9518-AEE99296CC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28FA8-7F52-4FC2-B5F4-058E3E6D30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EF2C5-A95B-42AD-B2CD-DAF9B8CE30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E999F-2F7C-4A77-B51A-46C365C909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5897D-65E4-456F-A0EE-E71429F882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8856F-9B2B-4CF3-83F2-2DD22C6CA7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E4B8D-F7E0-4D90-9BED-A217DD349F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9B546-0A2E-48D5-8596-C0B90FAC45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611F3-92FC-4D95-B96B-BB1F1EBE3E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48D46-63F4-4E26-82A8-62827B2FC4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B845D-BA59-4D7B-B7D0-0A074A3BD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8C098-1672-491B-BD33-34110477A3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DB0E0-D11A-458E-A6FC-BCF091D1B8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F598F-E340-4D4F-A4A4-4603C31A1C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6A1E0-9465-4A0C-AB7E-E8EC910B8C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716D2-964C-431B-8BC5-9F66ACC05E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2A438-572C-4DA9-ADE6-525127032E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67192-256C-4ED7-9A04-8FD785EC4D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5809D-9142-46D0-9EE3-15D0C3479F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D6C80-3562-44B3-9747-1296EAC8C7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FAB8E-7BEE-461B-82C8-F02F1DCD52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C521A-D592-4D41-99EB-528D104499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357120" y="1268280"/>
            <a:ext cx="84297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591" name="Picture 2" descr=""/>
          <p:cNvPicPr/>
          <p:nvPr/>
        </p:nvPicPr>
        <p:blipFill>
          <a:blip r:embed="rId1"/>
          <a:stretch/>
        </p:blipFill>
        <p:spPr>
          <a:xfrm>
            <a:off x="0" y="0"/>
            <a:ext cx="9144000" cy="1368360"/>
          </a:xfrm>
          <a:prstGeom prst="rect">
            <a:avLst/>
          </a:prstGeom>
          <a:ln w="0">
            <a:noFill/>
          </a:ln>
        </p:spPr>
      </p:pic>
      <p:pic>
        <p:nvPicPr>
          <p:cNvPr id="6592" name="Picture 3" descr=""/>
          <p:cNvPicPr/>
          <p:nvPr/>
        </p:nvPicPr>
        <p:blipFill>
          <a:blip r:embed="rId2"/>
          <a:stretch/>
        </p:blipFill>
        <p:spPr>
          <a:xfrm>
            <a:off x="1258920" y="2060640"/>
            <a:ext cx="1297080" cy="1528560"/>
          </a:xfrm>
          <a:prstGeom prst="rect">
            <a:avLst/>
          </a:prstGeom>
          <a:ln w="0">
            <a:noFill/>
          </a:ln>
        </p:spPr>
      </p:pic>
      <p:pic>
        <p:nvPicPr>
          <p:cNvPr id="6593" name="Picture 4" descr=""/>
          <p:cNvPicPr/>
          <p:nvPr/>
        </p:nvPicPr>
        <p:blipFill>
          <a:blip r:embed="rId3"/>
          <a:stretch/>
        </p:blipFill>
        <p:spPr>
          <a:xfrm>
            <a:off x="6948360" y="1989000"/>
            <a:ext cx="1444680" cy="1573200"/>
          </a:xfrm>
          <a:prstGeom prst="rect">
            <a:avLst/>
          </a:prstGeom>
          <a:ln w="0">
            <a:noFill/>
          </a:ln>
        </p:spPr>
      </p:pic>
      <p:sp>
        <p:nvSpPr>
          <p:cNvPr id="6594"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5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411" name="Group 2"/>
          <p:cNvGrpSpPr/>
          <p:nvPr/>
        </p:nvGrpSpPr>
        <p:grpSpPr>
          <a:xfrm>
            <a:off x="0" y="306360"/>
            <a:ext cx="9140760" cy="6548400"/>
            <a:chOff x="0" y="306360"/>
            <a:chExt cx="9140760" cy="6548400"/>
          </a:xfrm>
        </p:grpSpPr>
        <p:grpSp>
          <p:nvGrpSpPr>
            <p:cNvPr id="6412" name="Group 3"/>
            <p:cNvGrpSpPr/>
            <p:nvPr/>
          </p:nvGrpSpPr>
          <p:grpSpPr>
            <a:xfrm>
              <a:off x="0" y="306360"/>
              <a:ext cx="9140760" cy="6548400"/>
              <a:chOff x="0" y="306360"/>
              <a:chExt cx="9140760" cy="6548400"/>
            </a:xfrm>
          </p:grpSpPr>
          <p:sp>
            <p:nvSpPr>
              <p:cNvPr id="6413"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ffffff"/>
              </a:solidFill>
              <a:latin typeface="Times New Roman"/>
            </a:endParaRPr>
          </a:p>
        </p:txBody>
      </p:sp>
      <p:grpSp>
        <p:nvGrpSpPr>
          <p:cNvPr id="6420" name="Group 2"/>
          <p:cNvGrpSpPr/>
          <p:nvPr/>
        </p:nvGrpSpPr>
        <p:grpSpPr>
          <a:xfrm>
            <a:off x="0" y="306360"/>
            <a:ext cx="9140760" cy="6548400"/>
            <a:chOff x="0" y="306360"/>
            <a:chExt cx="9140760" cy="6548400"/>
          </a:xfrm>
        </p:grpSpPr>
        <p:grpSp>
          <p:nvGrpSpPr>
            <p:cNvPr id="6421" name="Group 3"/>
            <p:cNvGrpSpPr/>
            <p:nvPr/>
          </p:nvGrpSpPr>
          <p:grpSpPr>
            <a:xfrm>
              <a:off x="0" y="306360"/>
              <a:ext cx="9140760" cy="6548400"/>
              <a:chOff x="0" y="306360"/>
              <a:chExt cx="9140760" cy="6548400"/>
            </a:xfrm>
          </p:grpSpPr>
          <p:sp>
            <p:nvSpPr>
              <p:cNvPr id="6422"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8:36Z</dcterms:modified>
  <cp:revision>1</cp:revision>
  <dc:subject/>
  <dc:title/>
</cp:coreProperties>
</file>